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494-0C62-4A8C-8811-2B8B43D9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04F-6DD1-4E41-971F-85BC60E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B18-F8CA-4F05-94FF-70E01589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3A4-7417-40F6-9E52-45FAF13F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DD8F-3C4B-43F7-AAE8-4CDF41D7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DE3D-F0FE-4151-B29E-966BF58C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67B1-F0CC-4B67-B875-CF15CD6D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7A92-BAAB-4ACC-93A8-14C74ED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6E3A-FD71-4F49-B38A-A961A49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C6AC-8EA5-458C-BE01-BC9D613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E32-FDDC-4CDE-8A0E-A7BDE61C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0E8-418B-404C-A09E-9BD10544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D009-02DE-47C7-9B27-3BB85B5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C29D-8DBF-455B-B261-C3ACFE9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18E8-4A35-4550-BA5F-7E8AD49D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81D7-F4C9-4FBC-BB95-047AAAF7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542-657A-406C-A44F-AF99677A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708-5642-42F1-9D5F-E1E24C80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BB3-4132-4F04-B565-4D50919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9DB-EEC4-4B91-9566-E9C7207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2D5-5D01-4FBD-AD2D-66A6385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A6D-585E-4C7D-A547-CAF989A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A8B-1676-4071-8ABD-DCB8DD1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A09-5FE6-4E3B-B935-7B831FD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B4FA-B44C-4279-A5CD-F5E7298BA5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584-E9B1-4B57-A5EA-AC505CBABB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Write each number below i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anded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) 806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) 92,400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) 174,925 =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d8d8e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38240" y="2062080"/>
            <a:ext cx="660600" cy="358920"/>
          </a:xfrm>
          <a:custGeom>
            <a:avLst/>
            <a:gdLst/>
            <a:ahLst/>
            <a:rect l="l" t="t" r="r" b="b"/>
            <a:pathLst>
              <a:path w="1836" h="993">
                <a:moveTo>
                  <a:pt x="5854" y="5755"/>
                </a:moveTo>
                <a:cubicBezTo>
                  <a:pt x="5626" y="5732"/>
                  <a:pt x="5565" y="5789"/>
                  <a:pt x="5383" y="5928"/>
                </a:cubicBezTo>
                <a:cubicBezTo>
                  <a:pt x="5535" y="6046"/>
                  <a:pt x="5879" y="6121"/>
                  <a:pt x="5879" y="6350"/>
                </a:cubicBezTo>
                <a:cubicBezTo>
                  <a:pt x="5804" y="6474"/>
                  <a:pt x="5779" y="6515"/>
                  <a:pt x="5680" y="6548"/>
                </a:cubicBezTo>
                <a:cubicBezTo>
                  <a:pt x="5541" y="6329"/>
                  <a:pt x="5675" y="6165"/>
                  <a:pt x="5755" y="5928"/>
                </a:cubicBezTo>
                <a:cubicBezTo>
                  <a:pt x="5763" y="5895"/>
                  <a:pt x="5771" y="5862"/>
                  <a:pt x="5779" y="5829"/>
                </a:cubicBezTo>
              </a:path>
              <a:path w="1836" h="993">
                <a:moveTo>
                  <a:pt x="6325" y="5779"/>
                </a:moveTo>
                <a:cubicBezTo>
                  <a:pt x="6203" y="5739"/>
                  <a:pt x="6119" y="5747"/>
                  <a:pt x="6052" y="5879"/>
                </a:cubicBezTo>
                <a:cubicBezTo>
                  <a:pt x="5981" y="6018"/>
                  <a:pt x="5891" y="6395"/>
                  <a:pt x="6102" y="6474"/>
                </a:cubicBezTo>
                <a:cubicBezTo>
                  <a:pt x="6383" y="6579"/>
                  <a:pt x="6507" y="6234"/>
                  <a:pt x="6449" y="6028"/>
                </a:cubicBezTo>
                <a:cubicBezTo>
                  <a:pt x="6402" y="5862"/>
                  <a:pt x="6287" y="5853"/>
                  <a:pt x="6152" y="5829"/>
                </a:cubicBezTo>
              </a:path>
              <a:path w="1836" h="993">
                <a:moveTo>
                  <a:pt x="7020" y="5829"/>
                </a:moveTo>
                <a:cubicBezTo>
                  <a:pt x="6919" y="5702"/>
                  <a:pt x="6785" y="5951"/>
                  <a:pt x="6747" y="6077"/>
                </a:cubicBezTo>
                <a:cubicBezTo>
                  <a:pt x="6684" y="6287"/>
                  <a:pt x="6777" y="6561"/>
                  <a:pt x="7045" y="6449"/>
                </a:cubicBezTo>
                <a:cubicBezTo>
                  <a:pt x="7240" y="6368"/>
                  <a:pt x="7316" y="6021"/>
                  <a:pt x="7119" y="5904"/>
                </a:cubicBezTo>
                <a:cubicBezTo>
                  <a:pt x="6971" y="5879"/>
                  <a:pt x="6922" y="5871"/>
                  <a:pt x="6821" y="5879"/>
                </a:cubicBezTo>
              </a:path>
              <a:path w="1836" h="993">
                <a:moveTo>
                  <a:pt x="5680" y="6722"/>
                </a:moveTo>
                <a:cubicBezTo>
                  <a:pt x="5693" y="6683"/>
                  <a:pt x="5660" y="6690"/>
                  <a:pt x="5581" y="6648"/>
                </a:cubicBezTo>
                <a:cubicBezTo>
                  <a:pt x="5697" y="6688"/>
                  <a:pt x="5772" y="6672"/>
                  <a:pt x="5705" y="6722"/>
                </a:cubicBezTo>
              </a:path>
              <a:path w="1836" h="993">
                <a:moveTo>
                  <a:pt x="6276" y="6127"/>
                </a:moveTo>
                <a:lnTo>
                  <a:pt x="6276" y="6127"/>
                </a:lnTo>
              </a:path>
              <a:path w="1836" h="993">
                <a:moveTo>
                  <a:pt x="6995" y="6176"/>
                </a:moveTo>
                <a:lnTo>
                  <a:pt x="6995" y="61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63880" y="2027160"/>
            <a:ext cx="474480" cy="285840"/>
          </a:xfrm>
          <a:custGeom>
            <a:avLst/>
            <a:gdLst/>
            <a:ahLst/>
            <a:rect l="l" t="t" r="r" b="b"/>
            <a:pathLst>
              <a:path w="1316" h="794">
                <a:moveTo>
                  <a:pt x="8434" y="5804"/>
                </a:moveTo>
                <a:cubicBezTo>
                  <a:pt x="8473" y="5987"/>
                  <a:pt x="8504" y="6165"/>
                  <a:pt x="8533" y="6350"/>
                </a:cubicBezTo>
              </a:path>
              <a:path w="1316" h="794">
                <a:moveTo>
                  <a:pt x="8235" y="6152"/>
                </a:moveTo>
                <a:cubicBezTo>
                  <a:pt x="8450" y="6116"/>
                  <a:pt x="8664" y="6083"/>
                  <a:pt x="8880" y="6052"/>
                </a:cubicBezTo>
              </a:path>
              <a:path w="1316" h="794">
                <a:moveTo>
                  <a:pt x="8880" y="5631"/>
                </a:moveTo>
                <a:cubicBezTo>
                  <a:pt x="8869" y="5836"/>
                  <a:pt x="8843" y="6021"/>
                  <a:pt x="8880" y="6226"/>
                </a:cubicBezTo>
                <a:cubicBezTo>
                  <a:pt x="8920" y="6452"/>
                  <a:pt x="9147" y="6427"/>
                  <a:pt x="9327" y="6375"/>
                </a:cubicBezTo>
                <a:cubicBezTo>
                  <a:pt x="9497" y="6326"/>
                  <a:pt x="9530" y="6232"/>
                  <a:pt x="9550" y="6077"/>
                </a:cubicBezTo>
                <a:cubicBezTo>
                  <a:pt x="9400" y="6031"/>
                  <a:pt x="9277" y="6031"/>
                  <a:pt x="9227" y="6226"/>
                </a:cubicBezTo>
                <a:cubicBezTo>
                  <a:pt x="9227" y="6329"/>
                  <a:pt x="9229" y="6366"/>
                  <a:pt x="9277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66920" y="2463840"/>
            <a:ext cx="1955880" cy="484200"/>
          </a:xfrm>
          <a:custGeom>
            <a:avLst/>
            <a:gdLst/>
            <a:ahLst/>
            <a:rect l="l" t="t" r="r" b="b"/>
            <a:pathLst>
              <a:path w="5433" h="1341">
                <a:moveTo>
                  <a:pt x="4316" y="6995"/>
                </a:moveTo>
                <a:cubicBezTo>
                  <a:pt x="4090" y="7165"/>
                  <a:pt x="3871" y="7378"/>
                  <a:pt x="3795" y="7665"/>
                </a:cubicBezTo>
                <a:cubicBezTo>
                  <a:pt x="3744" y="7857"/>
                  <a:pt x="3815" y="7926"/>
                  <a:pt x="3944" y="8012"/>
                </a:cubicBezTo>
              </a:path>
              <a:path w="5433" h="1341">
                <a:moveTo>
                  <a:pt x="4738" y="7293"/>
                </a:moveTo>
                <a:cubicBezTo>
                  <a:pt x="4597" y="7229"/>
                  <a:pt x="4482" y="7280"/>
                  <a:pt x="4341" y="7367"/>
                </a:cubicBezTo>
                <a:cubicBezTo>
                  <a:pt x="4402" y="7454"/>
                  <a:pt x="4717" y="7697"/>
                  <a:pt x="4614" y="7838"/>
                </a:cubicBezTo>
                <a:cubicBezTo>
                  <a:pt x="4573" y="7855"/>
                  <a:pt x="4531" y="7871"/>
                  <a:pt x="4490" y="7888"/>
                </a:cubicBezTo>
                <a:cubicBezTo>
                  <a:pt x="4258" y="7687"/>
                  <a:pt x="4425" y="7606"/>
                  <a:pt x="4589" y="7367"/>
                </a:cubicBezTo>
                <a:cubicBezTo>
                  <a:pt x="4597" y="7350"/>
                  <a:pt x="4606" y="7334"/>
                  <a:pt x="4614" y="7317"/>
                </a:cubicBezTo>
              </a:path>
              <a:path w="5433" h="1341">
                <a:moveTo>
                  <a:pt x="5060" y="7417"/>
                </a:moveTo>
                <a:cubicBezTo>
                  <a:pt x="5113" y="7541"/>
                  <a:pt x="5164" y="7662"/>
                  <a:pt x="5209" y="7789"/>
                </a:cubicBezTo>
              </a:path>
              <a:path w="5433" h="1341">
                <a:moveTo>
                  <a:pt x="5308" y="7392"/>
                </a:moveTo>
                <a:cubicBezTo>
                  <a:pt x="5204" y="7573"/>
                  <a:pt x="5080" y="7740"/>
                  <a:pt x="4961" y="7913"/>
                </a:cubicBezTo>
              </a:path>
              <a:path w="5433" h="1341">
                <a:moveTo>
                  <a:pt x="5730" y="7441"/>
                </a:moveTo>
                <a:cubicBezTo>
                  <a:pt x="5677" y="7613"/>
                  <a:pt x="5633" y="7806"/>
                  <a:pt x="5606" y="7987"/>
                </a:cubicBezTo>
                <a:cubicBezTo>
                  <a:pt x="5606" y="8004"/>
                  <a:pt x="5606" y="8020"/>
                  <a:pt x="5606" y="8037"/>
                </a:cubicBezTo>
              </a:path>
              <a:path w="5433" h="1341">
                <a:moveTo>
                  <a:pt x="6152" y="7516"/>
                </a:moveTo>
                <a:cubicBezTo>
                  <a:pt x="6017" y="7660"/>
                  <a:pt x="5884" y="7800"/>
                  <a:pt x="5879" y="8012"/>
                </a:cubicBezTo>
                <a:cubicBezTo>
                  <a:pt x="5887" y="8045"/>
                  <a:pt x="5896" y="8078"/>
                  <a:pt x="5904" y="8111"/>
                </a:cubicBezTo>
                <a:cubicBezTo>
                  <a:pt x="6105" y="8140"/>
                  <a:pt x="6232" y="8061"/>
                  <a:pt x="6325" y="7863"/>
                </a:cubicBezTo>
                <a:cubicBezTo>
                  <a:pt x="6401" y="7701"/>
                  <a:pt x="6314" y="7689"/>
                  <a:pt x="6201" y="7640"/>
                </a:cubicBezTo>
              </a:path>
              <a:path w="5433" h="1341">
                <a:moveTo>
                  <a:pt x="6375" y="7293"/>
                </a:moveTo>
                <a:cubicBezTo>
                  <a:pt x="6423" y="7269"/>
                  <a:pt x="6437" y="7260"/>
                  <a:pt x="6474" y="7268"/>
                </a:cubicBezTo>
                <a:cubicBezTo>
                  <a:pt x="6454" y="7346"/>
                  <a:pt x="6326" y="7423"/>
                  <a:pt x="6499" y="7417"/>
                </a:cubicBezTo>
                <a:cubicBezTo>
                  <a:pt x="6532" y="7409"/>
                  <a:pt x="6565" y="7400"/>
                  <a:pt x="6598" y="7392"/>
                </a:cubicBezTo>
              </a:path>
              <a:path w="5433" h="1341">
                <a:moveTo>
                  <a:pt x="6722" y="6846"/>
                </a:moveTo>
                <a:cubicBezTo>
                  <a:pt x="6847" y="6985"/>
                  <a:pt x="6927" y="7107"/>
                  <a:pt x="6970" y="7293"/>
                </a:cubicBezTo>
                <a:cubicBezTo>
                  <a:pt x="7024" y="7527"/>
                  <a:pt x="7021" y="7839"/>
                  <a:pt x="6921" y="8062"/>
                </a:cubicBezTo>
                <a:cubicBezTo>
                  <a:pt x="6871" y="8174"/>
                  <a:pt x="6822" y="8175"/>
                  <a:pt x="6722" y="8186"/>
                </a:cubicBezTo>
              </a:path>
              <a:path w="5433" h="1341">
                <a:moveTo>
                  <a:pt x="7516" y="7516"/>
                </a:moveTo>
                <a:cubicBezTo>
                  <a:pt x="7499" y="7642"/>
                  <a:pt x="7491" y="7759"/>
                  <a:pt x="7491" y="7888"/>
                </a:cubicBezTo>
              </a:path>
              <a:path w="5433" h="1341">
                <a:moveTo>
                  <a:pt x="7293" y="7739"/>
                </a:moveTo>
                <a:cubicBezTo>
                  <a:pt x="7431" y="7713"/>
                  <a:pt x="7572" y="7705"/>
                  <a:pt x="7714" y="7689"/>
                </a:cubicBezTo>
              </a:path>
              <a:path w="5433" h="1341">
                <a:moveTo>
                  <a:pt x="8359" y="6970"/>
                </a:moveTo>
                <a:cubicBezTo>
                  <a:pt x="8137" y="7069"/>
                  <a:pt x="8071" y="7420"/>
                  <a:pt x="8012" y="7640"/>
                </a:cubicBezTo>
                <a:cubicBezTo>
                  <a:pt x="7943" y="7896"/>
                  <a:pt x="7949" y="8013"/>
                  <a:pt x="8161" y="8161"/>
                </a:cubicBezTo>
              </a:path>
              <a:path w="5433" h="1341">
                <a:moveTo>
                  <a:pt x="8483" y="7392"/>
                </a:moveTo>
                <a:cubicBezTo>
                  <a:pt x="8347" y="7437"/>
                  <a:pt x="8289" y="7697"/>
                  <a:pt x="8260" y="7938"/>
                </a:cubicBezTo>
                <a:cubicBezTo>
                  <a:pt x="8260" y="7996"/>
                  <a:pt x="8244" y="8020"/>
                  <a:pt x="8285" y="8012"/>
                </a:cubicBezTo>
                <a:cubicBezTo>
                  <a:pt x="8434" y="8030"/>
                  <a:pt x="8583" y="8033"/>
                  <a:pt x="8682" y="7888"/>
                </a:cubicBezTo>
                <a:cubicBezTo>
                  <a:pt x="8738" y="7807"/>
                  <a:pt x="8708" y="7782"/>
                  <a:pt x="8657" y="7739"/>
                </a:cubicBezTo>
                <a:cubicBezTo>
                  <a:pt x="8584" y="7830"/>
                  <a:pt x="8527" y="7904"/>
                  <a:pt x="8558" y="8012"/>
                </a:cubicBezTo>
              </a:path>
              <a:path w="5433" h="1341">
                <a:moveTo>
                  <a:pt x="8855" y="7466"/>
                </a:moveTo>
                <a:cubicBezTo>
                  <a:pt x="8961" y="7587"/>
                  <a:pt x="9064" y="7681"/>
                  <a:pt x="9203" y="7764"/>
                </a:cubicBezTo>
              </a:path>
              <a:path w="5433" h="1341">
                <a:moveTo>
                  <a:pt x="9227" y="7317"/>
                </a:moveTo>
                <a:cubicBezTo>
                  <a:pt x="9145" y="7498"/>
                  <a:pt x="9079" y="7672"/>
                  <a:pt x="9029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2463840"/>
            <a:ext cx="430200" cy="492120"/>
          </a:xfrm>
          <a:custGeom>
            <a:avLst/>
            <a:gdLst/>
            <a:ahLst/>
            <a:rect l="l" t="t" r="r" b="b"/>
            <a:pathLst>
              <a:path w="1191" h="1365">
                <a:moveTo>
                  <a:pt x="9699" y="7268"/>
                </a:moveTo>
                <a:cubicBezTo>
                  <a:pt x="9699" y="7475"/>
                  <a:pt x="9699" y="7681"/>
                  <a:pt x="9699" y="7888"/>
                </a:cubicBezTo>
              </a:path>
              <a:path w="1191" h="1365">
                <a:moveTo>
                  <a:pt x="10071" y="7342"/>
                </a:moveTo>
                <a:cubicBezTo>
                  <a:pt x="10019" y="7446"/>
                  <a:pt x="9808" y="7859"/>
                  <a:pt x="10021" y="7938"/>
                </a:cubicBezTo>
                <a:cubicBezTo>
                  <a:pt x="10176" y="7996"/>
                  <a:pt x="10314" y="7813"/>
                  <a:pt x="10344" y="7689"/>
                </a:cubicBezTo>
                <a:cubicBezTo>
                  <a:pt x="10371" y="7574"/>
                  <a:pt x="10291" y="7468"/>
                  <a:pt x="10195" y="7417"/>
                </a:cubicBezTo>
                <a:cubicBezTo>
                  <a:pt x="10137" y="7398"/>
                  <a:pt x="10131" y="7389"/>
                  <a:pt x="10096" y="7392"/>
                </a:cubicBezTo>
              </a:path>
              <a:path w="1191" h="1365">
                <a:moveTo>
                  <a:pt x="10368" y="7069"/>
                </a:moveTo>
                <a:cubicBezTo>
                  <a:pt x="10318" y="7133"/>
                  <a:pt x="10303" y="7188"/>
                  <a:pt x="10294" y="7268"/>
                </a:cubicBezTo>
                <a:cubicBezTo>
                  <a:pt x="10372" y="7268"/>
                  <a:pt x="10504" y="7287"/>
                  <a:pt x="10492" y="7169"/>
                </a:cubicBezTo>
                <a:cubicBezTo>
                  <a:pt x="10486" y="7108"/>
                  <a:pt x="10439" y="7103"/>
                  <a:pt x="10393" y="7094"/>
                </a:cubicBezTo>
              </a:path>
              <a:path w="1191" h="1365">
                <a:moveTo>
                  <a:pt x="10616" y="6846"/>
                </a:moveTo>
                <a:cubicBezTo>
                  <a:pt x="10725" y="6955"/>
                  <a:pt x="10790" y="7042"/>
                  <a:pt x="10840" y="7193"/>
                </a:cubicBezTo>
                <a:cubicBezTo>
                  <a:pt x="10891" y="7348"/>
                  <a:pt x="10907" y="7527"/>
                  <a:pt x="10889" y="7689"/>
                </a:cubicBezTo>
                <a:cubicBezTo>
                  <a:pt x="10872" y="7844"/>
                  <a:pt x="10818" y="8002"/>
                  <a:pt x="10740" y="8136"/>
                </a:cubicBezTo>
                <a:cubicBezTo>
                  <a:pt x="10711" y="8166"/>
                  <a:pt x="10700" y="8180"/>
                  <a:pt x="10691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09880" y="3571920"/>
            <a:ext cx="1035000" cy="357120"/>
          </a:xfrm>
          <a:custGeom>
            <a:avLst/>
            <a:gdLst/>
            <a:ahLst/>
            <a:rect l="l" t="t" r="r" b="b"/>
            <a:pathLst>
              <a:path w="2878" h="993">
                <a:moveTo>
                  <a:pt x="5978" y="10220"/>
                </a:moveTo>
                <a:cubicBezTo>
                  <a:pt x="5955" y="10058"/>
                  <a:pt x="5903" y="10012"/>
                  <a:pt x="5779" y="9922"/>
                </a:cubicBezTo>
                <a:cubicBezTo>
                  <a:pt x="5584" y="10080"/>
                  <a:pt x="5532" y="10174"/>
                  <a:pt x="5655" y="10393"/>
                </a:cubicBezTo>
                <a:cubicBezTo>
                  <a:pt x="5811" y="10294"/>
                  <a:pt x="5859" y="10256"/>
                  <a:pt x="5953" y="10096"/>
                </a:cubicBezTo>
                <a:cubicBezTo>
                  <a:pt x="6037" y="10331"/>
                  <a:pt x="6077" y="10514"/>
                  <a:pt x="6077" y="10765"/>
                </a:cubicBezTo>
              </a:path>
              <a:path w="2878" h="993">
                <a:moveTo>
                  <a:pt x="6474" y="10071"/>
                </a:moveTo>
                <a:cubicBezTo>
                  <a:pt x="6262" y="9943"/>
                  <a:pt x="6149" y="10185"/>
                  <a:pt x="6102" y="10393"/>
                </a:cubicBezTo>
                <a:cubicBezTo>
                  <a:pt x="6102" y="10459"/>
                  <a:pt x="6102" y="10526"/>
                  <a:pt x="6102" y="10592"/>
                </a:cubicBezTo>
                <a:cubicBezTo>
                  <a:pt x="6320" y="10634"/>
                  <a:pt x="6745" y="10548"/>
                  <a:pt x="6598" y="10170"/>
                </a:cubicBezTo>
                <a:cubicBezTo>
                  <a:pt x="6487" y="10104"/>
                  <a:pt x="6461" y="10079"/>
                  <a:pt x="6375" y="10096"/>
                </a:cubicBezTo>
              </a:path>
              <a:path w="2878" h="993">
                <a:moveTo>
                  <a:pt x="6796" y="10740"/>
                </a:moveTo>
                <a:cubicBezTo>
                  <a:pt x="6796" y="10798"/>
                  <a:pt x="6796" y="10856"/>
                  <a:pt x="6796" y="10914"/>
                </a:cubicBezTo>
              </a:path>
              <a:path w="2878" h="993">
                <a:moveTo>
                  <a:pt x="7094" y="10071"/>
                </a:moveTo>
                <a:cubicBezTo>
                  <a:pt x="6884" y="10207"/>
                  <a:pt x="6884" y="10247"/>
                  <a:pt x="6821" y="10492"/>
                </a:cubicBezTo>
                <a:cubicBezTo>
                  <a:pt x="6980" y="10545"/>
                  <a:pt x="7537" y="10559"/>
                  <a:pt x="7342" y="10195"/>
                </a:cubicBezTo>
                <a:cubicBezTo>
                  <a:pt x="7292" y="10170"/>
                  <a:pt x="7243" y="10145"/>
                  <a:pt x="7193" y="10120"/>
                </a:cubicBezTo>
              </a:path>
              <a:path w="2878" h="993">
                <a:moveTo>
                  <a:pt x="7615" y="10046"/>
                </a:moveTo>
                <a:cubicBezTo>
                  <a:pt x="7461" y="10148"/>
                  <a:pt x="7442" y="10243"/>
                  <a:pt x="7417" y="10418"/>
                </a:cubicBezTo>
                <a:cubicBezTo>
                  <a:pt x="7574" y="10526"/>
                  <a:pt x="7941" y="10491"/>
                  <a:pt x="7913" y="10170"/>
                </a:cubicBezTo>
                <a:cubicBezTo>
                  <a:pt x="7811" y="10069"/>
                  <a:pt x="7774" y="10035"/>
                  <a:pt x="7665" y="10046"/>
                </a:cubicBezTo>
              </a:path>
              <a:path w="2878" h="993">
                <a:moveTo>
                  <a:pt x="8210" y="10046"/>
                </a:moveTo>
                <a:cubicBezTo>
                  <a:pt x="8003" y="10228"/>
                  <a:pt x="7928" y="10289"/>
                  <a:pt x="8012" y="10542"/>
                </a:cubicBezTo>
                <a:cubicBezTo>
                  <a:pt x="8137" y="10518"/>
                  <a:pt x="8704" y="10321"/>
                  <a:pt x="8384" y="10096"/>
                </a:cubicBezTo>
                <a:cubicBezTo>
                  <a:pt x="8310" y="10079"/>
                  <a:pt x="8235" y="10063"/>
                  <a:pt x="8161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14800" y="3537000"/>
            <a:ext cx="1170000" cy="258840"/>
          </a:xfrm>
          <a:custGeom>
            <a:avLst/>
            <a:gdLst/>
            <a:ahLst/>
            <a:rect l="l" t="t" r="r" b="b"/>
            <a:pathLst>
              <a:path w="3250" h="720">
                <a:moveTo>
                  <a:pt x="9103" y="10170"/>
                </a:moveTo>
                <a:cubicBezTo>
                  <a:pt x="9111" y="10220"/>
                  <a:pt x="9120" y="10269"/>
                  <a:pt x="9128" y="10319"/>
                </a:cubicBezTo>
              </a:path>
              <a:path w="3250" h="720">
                <a:moveTo>
                  <a:pt x="8930" y="10195"/>
                </a:moveTo>
                <a:cubicBezTo>
                  <a:pt x="9108" y="10135"/>
                  <a:pt x="9188" y="10115"/>
                  <a:pt x="9327" y="10120"/>
                </a:cubicBezTo>
              </a:path>
              <a:path w="3250" h="720">
                <a:moveTo>
                  <a:pt x="9798" y="9872"/>
                </a:moveTo>
                <a:cubicBezTo>
                  <a:pt x="9964" y="9853"/>
                  <a:pt x="10247" y="10019"/>
                  <a:pt x="10096" y="10269"/>
                </a:cubicBezTo>
                <a:cubicBezTo>
                  <a:pt x="9971" y="10476"/>
                  <a:pt x="9729" y="10342"/>
                  <a:pt x="9575" y="10294"/>
                </a:cubicBezTo>
                <a:cubicBezTo>
                  <a:pt x="9707" y="10161"/>
                  <a:pt x="9948" y="10163"/>
                  <a:pt x="10120" y="10319"/>
                </a:cubicBezTo>
                <a:cubicBezTo>
                  <a:pt x="10191" y="10383"/>
                  <a:pt x="10335" y="10366"/>
                  <a:pt x="10344" y="10393"/>
                </a:cubicBezTo>
                <a:cubicBezTo>
                  <a:pt x="10352" y="10443"/>
                  <a:pt x="10360" y="10492"/>
                  <a:pt x="10368" y="10542"/>
                </a:cubicBezTo>
              </a:path>
              <a:path w="3250" h="720">
                <a:moveTo>
                  <a:pt x="10740" y="9897"/>
                </a:moveTo>
                <a:cubicBezTo>
                  <a:pt x="10551" y="10002"/>
                  <a:pt x="10528" y="10070"/>
                  <a:pt x="10443" y="10269"/>
                </a:cubicBezTo>
                <a:cubicBezTo>
                  <a:pt x="10567" y="10331"/>
                  <a:pt x="11120" y="10429"/>
                  <a:pt x="11038" y="10071"/>
                </a:cubicBezTo>
                <a:cubicBezTo>
                  <a:pt x="10920" y="9953"/>
                  <a:pt x="10888" y="9912"/>
                  <a:pt x="10765" y="9947"/>
                </a:cubicBezTo>
              </a:path>
              <a:path w="3250" h="720">
                <a:moveTo>
                  <a:pt x="11385" y="9922"/>
                </a:moveTo>
                <a:cubicBezTo>
                  <a:pt x="11231" y="10076"/>
                  <a:pt x="11193" y="10187"/>
                  <a:pt x="11237" y="10393"/>
                </a:cubicBezTo>
                <a:cubicBezTo>
                  <a:pt x="11386" y="10386"/>
                  <a:pt x="11783" y="10286"/>
                  <a:pt x="11609" y="10021"/>
                </a:cubicBezTo>
                <a:cubicBezTo>
                  <a:pt x="11461" y="9923"/>
                  <a:pt x="11412" y="9889"/>
                  <a:pt x="11286" y="9947"/>
                </a:cubicBezTo>
              </a:path>
              <a:path w="3250" h="720">
                <a:moveTo>
                  <a:pt x="12005" y="9971"/>
                </a:moveTo>
                <a:cubicBezTo>
                  <a:pt x="11806" y="9945"/>
                  <a:pt x="11662" y="10027"/>
                  <a:pt x="11658" y="10269"/>
                </a:cubicBezTo>
                <a:cubicBezTo>
                  <a:pt x="11675" y="10319"/>
                  <a:pt x="11691" y="10368"/>
                  <a:pt x="11708" y="10418"/>
                </a:cubicBezTo>
                <a:cubicBezTo>
                  <a:pt x="11952" y="10418"/>
                  <a:pt x="12311" y="10352"/>
                  <a:pt x="12129" y="9996"/>
                </a:cubicBezTo>
                <a:cubicBezTo>
                  <a:pt x="12088" y="9963"/>
                  <a:pt x="12046" y="9930"/>
                  <a:pt x="12005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89640" y="3633840"/>
            <a:ext cx="8064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2898" y="10170"/>
                </a:moveTo>
                <a:cubicBezTo>
                  <a:pt x="12906" y="10220"/>
                  <a:pt x="12915" y="10269"/>
                  <a:pt x="12923" y="10319"/>
                </a:cubicBezTo>
              </a:path>
              <a:path w="224" h="224">
                <a:moveTo>
                  <a:pt x="12750" y="10096"/>
                </a:moveTo>
                <a:cubicBezTo>
                  <a:pt x="12824" y="10096"/>
                  <a:pt x="12899" y="10096"/>
                  <a:pt x="12973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64040" y="3527280"/>
            <a:ext cx="573120" cy="241560"/>
          </a:xfrm>
          <a:custGeom>
            <a:avLst/>
            <a:gdLst/>
            <a:ahLst/>
            <a:rect l="l" t="t" r="r" b="b"/>
            <a:pathLst>
              <a:path w="1589" h="671">
                <a:moveTo>
                  <a:pt x="13891" y="9947"/>
                </a:moveTo>
                <a:cubicBezTo>
                  <a:pt x="13832" y="10045"/>
                  <a:pt x="13811" y="10087"/>
                  <a:pt x="13791" y="10195"/>
                </a:cubicBezTo>
                <a:cubicBezTo>
                  <a:pt x="13945" y="10242"/>
                  <a:pt x="14023" y="10202"/>
                  <a:pt x="14188" y="10170"/>
                </a:cubicBezTo>
              </a:path>
              <a:path w="1589" h="671">
                <a:moveTo>
                  <a:pt x="14213" y="9897"/>
                </a:moveTo>
                <a:cubicBezTo>
                  <a:pt x="14141" y="10137"/>
                  <a:pt x="14119" y="10213"/>
                  <a:pt x="14064" y="10368"/>
                </a:cubicBezTo>
              </a:path>
              <a:path w="1589" h="671">
                <a:moveTo>
                  <a:pt x="14635" y="9798"/>
                </a:moveTo>
                <a:cubicBezTo>
                  <a:pt x="14442" y="9991"/>
                  <a:pt x="14347" y="10098"/>
                  <a:pt x="14436" y="10344"/>
                </a:cubicBezTo>
                <a:cubicBezTo>
                  <a:pt x="14609" y="10295"/>
                  <a:pt x="15014" y="10143"/>
                  <a:pt x="14734" y="9897"/>
                </a:cubicBezTo>
                <a:cubicBezTo>
                  <a:pt x="14693" y="9889"/>
                  <a:pt x="14651" y="9880"/>
                  <a:pt x="14610" y="9872"/>
                </a:cubicBezTo>
              </a:path>
              <a:path w="1589" h="671">
                <a:moveTo>
                  <a:pt x="15230" y="9897"/>
                </a:moveTo>
                <a:cubicBezTo>
                  <a:pt x="15068" y="10000"/>
                  <a:pt x="14891" y="10172"/>
                  <a:pt x="14932" y="10393"/>
                </a:cubicBezTo>
                <a:cubicBezTo>
                  <a:pt x="14957" y="10418"/>
                  <a:pt x="14982" y="10443"/>
                  <a:pt x="15007" y="10468"/>
                </a:cubicBezTo>
                <a:cubicBezTo>
                  <a:pt x="15216" y="10418"/>
                  <a:pt x="15484" y="10272"/>
                  <a:pt x="15329" y="9996"/>
                </a:cubicBezTo>
                <a:cubicBezTo>
                  <a:pt x="15288" y="9963"/>
                  <a:pt x="15246" y="9930"/>
                  <a:pt x="15205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19160" y="3857760"/>
            <a:ext cx="1689120" cy="608040"/>
          </a:xfrm>
          <a:custGeom>
            <a:avLst/>
            <a:gdLst/>
            <a:ahLst/>
            <a:rect l="l" t="t" r="r" b="b"/>
            <a:pathLst>
              <a:path w="4689" h="1687">
                <a:moveTo>
                  <a:pt x="5556" y="10988"/>
                </a:moveTo>
                <a:cubicBezTo>
                  <a:pt x="5436" y="11288"/>
                  <a:pt x="5201" y="11714"/>
                  <a:pt x="5407" y="12030"/>
                </a:cubicBezTo>
                <a:cubicBezTo>
                  <a:pt x="5488" y="12071"/>
                  <a:pt x="5501" y="12087"/>
                  <a:pt x="5556" y="12080"/>
                </a:cubicBezTo>
              </a:path>
              <a:path w="4689" h="1687">
                <a:moveTo>
                  <a:pt x="5928" y="11509"/>
                </a:moveTo>
                <a:cubicBezTo>
                  <a:pt x="5901" y="11354"/>
                  <a:pt x="5858" y="11262"/>
                  <a:pt x="5730" y="11162"/>
                </a:cubicBezTo>
                <a:cubicBezTo>
                  <a:pt x="5701" y="11214"/>
                  <a:pt x="5467" y="11687"/>
                  <a:pt x="5705" y="11609"/>
                </a:cubicBezTo>
                <a:cubicBezTo>
                  <a:pt x="5825" y="11512"/>
                  <a:pt x="5864" y="11483"/>
                  <a:pt x="5904" y="11385"/>
                </a:cubicBezTo>
                <a:cubicBezTo>
                  <a:pt x="5955" y="11568"/>
                  <a:pt x="5953" y="11736"/>
                  <a:pt x="5953" y="11931"/>
                </a:cubicBezTo>
              </a:path>
              <a:path w="4689" h="1687">
                <a:moveTo>
                  <a:pt x="6300" y="11385"/>
                </a:moveTo>
                <a:cubicBezTo>
                  <a:pt x="6349" y="11532"/>
                  <a:pt x="6455" y="11651"/>
                  <a:pt x="6548" y="11782"/>
                </a:cubicBezTo>
              </a:path>
              <a:path w="4689" h="1687">
                <a:moveTo>
                  <a:pt x="6648" y="11286"/>
                </a:moveTo>
                <a:cubicBezTo>
                  <a:pt x="6533" y="11515"/>
                  <a:pt x="6431" y="11753"/>
                  <a:pt x="6276" y="11956"/>
                </a:cubicBezTo>
              </a:path>
              <a:path w="4689" h="1687">
                <a:moveTo>
                  <a:pt x="7045" y="11361"/>
                </a:moveTo>
                <a:cubicBezTo>
                  <a:pt x="7029" y="11534"/>
                  <a:pt x="6978" y="11693"/>
                  <a:pt x="6921" y="11857"/>
                </a:cubicBezTo>
              </a:path>
              <a:path w="4689" h="1687">
                <a:moveTo>
                  <a:pt x="7367" y="11361"/>
                </a:moveTo>
                <a:cubicBezTo>
                  <a:pt x="7283" y="11586"/>
                  <a:pt x="7169" y="11757"/>
                  <a:pt x="7218" y="11981"/>
                </a:cubicBezTo>
                <a:cubicBezTo>
                  <a:pt x="7368" y="11947"/>
                  <a:pt x="7647" y="11855"/>
                  <a:pt x="7541" y="11633"/>
                </a:cubicBezTo>
                <a:cubicBezTo>
                  <a:pt x="7456" y="11549"/>
                  <a:pt x="7442" y="11522"/>
                  <a:pt x="7367" y="11509"/>
                </a:cubicBezTo>
              </a:path>
              <a:path w="4689" h="1687">
                <a:moveTo>
                  <a:pt x="7615" y="11038"/>
                </a:moveTo>
                <a:cubicBezTo>
                  <a:pt x="7589" y="11122"/>
                  <a:pt x="7558" y="11203"/>
                  <a:pt x="7541" y="11286"/>
                </a:cubicBezTo>
                <a:cubicBezTo>
                  <a:pt x="7640" y="11261"/>
                  <a:pt x="7673" y="11253"/>
                  <a:pt x="7739" y="11237"/>
                </a:cubicBezTo>
              </a:path>
              <a:path w="4689" h="1687">
                <a:moveTo>
                  <a:pt x="7764" y="10964"/>
                </a:moveTo>
                <a:cubicBezTo>
                  <a:pt x="7727" y="11121"/>
                  <a:pt x="7715" y="11282"/>
                  <a:pt x="7665" y="11435"/>
                </a:cubicBezTo>
              </a:path>
              <a:path w="4689" h="1687">
                <a:moveTo>
                  <a:pt x="7863" y="10716"/>
                </a:moveTo>
                <a:cubicBezTo>
                  <a:pt x="8086" y="11027"/>
                  <a:pt x="8251" y="11330"/>
                  <a:pt x="8161" y="11733"/>
                </a:cubicBezTo>
                <a:cubicBezTo>
                  <a:pt x="8078" y="11898"/>
                  <a:pt x="8062" y="11931"/>
                  <a:pt x="8012" y="12030"/>
                </a:cubicBezTo>
              </a:path>
              <a:path w="4689" h="1687">
                <a:moveTo>
                  <a:pt x="5904" y="12328"/>
                </a:moveTo>
                <a:lnTo>
                  <a:pt x="5904" y="12328"/>
                </a:lnTo>
              </a:path>
              <a:path w="4689" h="1687">
                <a:moveTo>
                  <a:pt x="5854" y="12378"/>
                </a:moveTo>
                <a:cubicBezTo>
                  <a:pt x="5918" y="12378"/>
                  <a:pt x="6109" y="12338"/>
                  <a:pt x="5953" y="12402"/>
                </a:cubicBezTo>
              </a:path>
              <a:path w="4689" h="1687">
                <a:moveTo>
                  <a:pt x="8483" y="11534"/>
                </a:moveTo>
                <a:cubicBezTo>
                  <a:pt x="8483" y="11551"/>
                  <a:pt x="8483" y="11824"/>
                  <a:pt x="8483" y="11931"/>
                </a:cubicBezTo>
              </a:path>
              <a:path w="4689" h="1687">
                <a:moveTo>
                  <a:pt x="8434" y="11757"/>
                </a:moveTo>
                <a:cubicBezTo>
                  <a:pt x="8549" y="11735"/>
                  <a:pt x="8581" y="11727"/>
                  <a:pt x="8657" y="11733"/>
                </a:cubicBezTo>
              </a:path>
              <a:path w="4689" h="1687">
                <a:moveTo>
                  <a:pt x="9079" y="11162"/>
                </a:moveTo>
                <a:cubicBezTo>
                  <a:pt x="8871" y="11277"/>
                  <a:pt x="8895" y="11581"/>
                  <a:pt x="8930" y="11807"/>
                </a:cubicBezTo>
                <a:cubicBezTo>
                  <a:pt x="8974" y="11942"/>
                  <a:pt x="8977" y="11985"/>
                  <a:pt x="9079" y="12005"/>
                </a:cubicBezTo>
              </a:path>
              <a:path w="4689" h="1687">
                <a:moveTo>
                  <a:pt x="9327" y="11410"/>
                </a:moveTo>
                <a:cubicBezTo>
                  <a:pt x="9473" y="11285"/>
                  <a:pt x="9600" y="11482"/>
                  <a:pt x="9575" y="11658"/>
                </a:cubicBezTo>
                <a:cubicBezTo>
                  <a:pt x="9550" y="11833"/>
                  <a:pt x="9325" y="12025"/>
                  <a:pt x="9203" y="11807"/>
                </a:cubicBezTo>
                <a:cubicBezTo>
                  <a:pt x="9203" y="11782"/>
                  <a:pt x="9203" y="11758"/>
                  <a:pt x="9203" y="11733"/>
                </a:cubicBezTo>
                <a:cubicBezTo>
                  <a:pt x="9412" y="11667"/>
                  <a:pt x="9435" y="11742"/>
                  <a:pt x="9575" y="11906"/>
                </a:cubicBezTo>
                <a:cubicBezTo>
                  <a:pt x="9583" y="11914"/>
                  <a:pt x="9591" y="11923"/>
                  <a:pt x="9599" y="11931"/>
                </a:cubicBezTo>
              </a:path>
              <a:path w="4689" h="1687">
                <a:moveTo>
                  <a:pt x="9748" y="11485"/>
                </a:moveTo>
                <a:cubicBezTo>
                  <a:pt x="9828" y="11572"/>
                  <a:pt x="9899" y="11663"/>
                  <a:pt x="9971" y="11757"/>
                </a:cubicBezTo>
              </a:path>
              <a:path w="4689" h="1687">
                <a:moveTo>
                  <a:pt x="10021" y="11410"/>
                </a:moveTo>
                <a:cubicBezTo>
                  <a:pt x="9916" y="11558"/>
                  <a:pt x="9813" y="11701"/>
                  <a:pt x="972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14840" y="3973680"/>
            <a:ext cx="544320" cy="331560"/>
          </a:xfrm>
          <a:custGeom>
            <a:avLst/>
            <a:gdLst/>
            <a:ahLst/>
            <a:rect l="l" t="t" r="r" b="b"/>
            <a:pathLst>
              <a:path w="1514" h="919">
                <a:moveTo>
                  <a:pt x="10319" y="11410"/>
                </a:moveTo>
                <a:cubicBezTo>
                  <a:pt x="10319" y="11558"/>
                  <a:pt x="10320" y="11688"/>
                  <a:pt x="10344" y="11832"/>
                </a:cubicBezTo>
              </a:path>
              <a:path w="1514" h="919">
                <a:moveTo>
                  <a:pt x="10641" y="11385"/>
                </a:moveTo>
                <a:cubicBezTo>
                  <a:pt x="10569" y="11544"/>
                  <a:pt x="10491" y="11679"/>
                  <a:pt x="10542" y="11857"/>
                </a:cubicBezTo>
                <a:cubicBezTo>
                  <a:pt x="10559" y="11882"/>
                  <a:pt x="10575" y="11906"/>
                  <a:pt x="10592" y="11931"/>
                </a:cubicBezTo>
                <a:cubicBezTo>
                  <a:pt x="10781" y="11900"/>
                  <a:pt x="10879" y="11810"/>
                  <a:pt x="10790" y="11584"/>
                </a:cubicBezTo>
                <a:cubicBezTo>
                  <a:pt x="10723" y="11494"/>
                  <a:pt x="10704" y="11470"/>
                  <a:pt x="10666" y="11410"/>
                </a:cubicBezTo>
              </a:path>
              <a:path w="1514" h="919">
                <a:moveTo>
                  <a:pt x="10889" y="11137"/>
                </a:moveTo>
                <a:cubicBezTo>
                  <a:pt x="11018" y="11149"/>
                  <a:pt x="11042" y="11173"/>
                  <a:pt x="10939" y="11261"/>
                </a:cubicBezTo>
                <a:cubicBezTo>
                  <a:pt x="11017" y="11272"/>
                  <a:pt x="11206" y="11325"/>
                  <a:pt x="11063" y="11435"/>
                </a:cubicBezTo>
                <a:cubicBezTo>
                  <a:pt x="10967" y="11483"/>
                  <a:pt x="10938" y="11500"/>
                  <a:pt x="10864" y="11485"/>
                </a:cubicBezTo>
              </a:path>
              <a:path w="1514" h="919">
                <a:moveTo>
                  <a:pt x="11187" y="11038"/>
                </a:moveTo>
                <a:cubicBezTo>
                  <a:pt x="11299" y="11271"/>
                  <a:pt x="11449" y="11546"/>
                  <a:pt x="11336" y="11807"/>
                </a:cubicBezTo>
                <a:cubicBezTo>
                  <a:pt x="11283" y="11928"/>
                  <a:pt x="11219" y="11985"/>
                  <a:pt x="11187" y="11906"/>
                </a:cubicBezTo>
              </a:path>
              <a:path w="1514" h="919">
                <a:moveTo>
                  <a:pt x="11609" y="11336"/>
                </a:moveTo>
                <a:cubicBezTo>
                  <a:pt x="11650" y="11476"/>
                  <a:pt x="11675" y="11588"/>
                  <a:pt x="11683" y="11733"/>
                </a:cubicBezTo>
              </a:path>
              <a:path w="1514" h="919">
                <a:moveTo>
                  <a:pt x="11584" y="11609"/>
                </a:moveTo>
                <a:cubicBezTo>
                  <a:pt x="11668" y="11588"/>
                  <a:pt x="11747" y="11568"/>
                  <a:pt x="11832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67160" y="3911760"/>
            <a:ext cx="874800" cy="401400"/>
          </a:xfrm>
          <a:custGeom>
            <a:avLst/>
            <a:gdLst/>
            <a:ahLst/>
            <a:rect l="l" t="t" r="r" b="b"/>
            <a:pathLst>
              <a:path w="2432" h="1118">
                <a:moveTo>
                  <a:pt x="12328" y="11088"/>
                </a:moveTo>
                <a:cubicBezTo>
                  <a:pt x="12174" y="11317"/>
                  <a:pt x="12097" y="11551"/>
                  <a:pt x="12154" y="11832"/>
                </a:cubicBezTo>
                <a:cubicBezTo>
                  <a:pt x="12196" y="11915"/>
                  <a:pt x="12204" y="11931"/>
                  <a:pt x="12229" y="11981"/>
                </a:cubicBezTo>
              </a:path>
              <a:path w="2432" h="1118">
                <a:moveTo>
                  <a:pt x="12402" y="11410"/>
                </a:moveTo>
                <a:cubicBezTo>
                  <a:pt x="12364" y="11527"/>
                  <a:pt x="12362" y="11547"/>
                  <a:pt x="12328" y="11609"/>
                </a:cubicBezTo>
                <a:cubicBezTo>
                  <a:pt x="12435" y="11609"/>
                  <a:pt x="12543" y="11609"/>
                  <a:pt x="12650" y="11609"/>
                </a:cubicBezTo>
              </a:path>
              <a:path w="2432" h="1118">
                <a:moveTo>
                  <a:pt x="12626" y="11237"/>
                </a:moveTo>
                <a:cubicBezTo>
                  <a:pt x="12602" y="11442"/>
                  <a:pt x="12592" y="11629"/>
                  <a:pt x="12626" y="11832"/>
                </a:cubicBezTo>
              </a:path>
              <a:path w="2432" h="1118">
                <a:moveTo>
                  <a:pt x="12874" y="11286"/>
                </a:moveTo>
                <a:cubicBezTo>
                  <a:pt x="12925" y="11470"/>
                  <a:pt x="12967" y="11613"/>
                  <a:pt x="13122" y="11733"/>
                </a:cubicBezTo>
              </a:path>
              <a:path w="2432" h="1118">
                <a:moveTo>
                  <a:pt x="13146" y="11261"/>
                </a:moveTo>
                <a:cubicBezTo>
                  <a:pt x="13028" y="11402"/>
                  <a:pt x="12927" y="11554"/>
                  <a:pt x="12824" y="11708"/>
                </a:cubicBezTo>
              </a:path>
              <a:path w="2432" h="1118">
                <a:moveTo>
                  <a:pt x="13345" y="11311"/>
                </a:moveTo>
                <a:cubicBezTo>
                  <a:pt x="13345" y="11485"/>
                  <a:pt x="13345" y="11658"/>
                  <a:pt x="13345" y="11832"/>
                </a:cubicBezTo>
              </a:path>
              <a:path w="2432" h="1118">
                <a:moveTo>
                  <a:pt x="13618" y="11286"/>
                </a:moveTo>
                <a:cubicBezTo>
                  <a:pt x="13557" y="11428"/>
                  <a:pt x="13375" y="11682"/>
                  <a:pt x="13519" y="11832"/>
                </a:cubicBezTo>
                <a:cubicBezTo>
                  <a:pt x="13617" y="11857"/>
                  <a:pt x="13649" y="11865"/>
                  <a:pt x="13717" y="11857"/>
                </a:cubicBezTo>
                <a:cubicBezTo>
                  <a:pt x="13787" y="11732"/>
                  <a:pt x="13872" y="11494"/>
                  <a:pt x="13692" y="11385"/>
                </a:cubicBezTo>
                <a:cubicBezTo>
                  <a:pt x="13667" y="11385"/>
                  <a:pt x="13643" y="11385"/>
                  <a:pt x="13618" y="11385"/>
                </a:cubicBezTo>
              </a:path>
              <a:path w="2432" h="1118">
                <a:moveTo>
                  <a:pt x="13990" y="11137"/>
                </a:moveTo>
                <a:cubicBezTo>
                  <a:pt x="14059" y="11184"/>
                  <a:pt x="14079" y="11196"/>
                  <a:pt x="14114" y="11237"/>
                </a:cubicBezTo>
                <a:cubicBezTo>
                  <a:pt x="14021" y="11340"/>
                  <a:pt x="13962" y="11348"/>
                  <a:pt x="13816" y="11361"/>
                </a:cubicBezTo>
                <a:cubicBezTo>
                  <a:pt x="13913" y="11263"/>
                  <a:pt x="13957" y="11363"/>
                  <a:pt x="14089" y="11385"/>
                </a:cubicBezTo>
                <a:cubicBezTo>
                  <a:pt x="14114" y="11385"/>
                  <a:pt x="14138" y="11385"/>
                  <a:pt x="14163" y="11385"/>
                </a:cubicBezTo>
              </a:path>
              <a:path w="2432" h="1118">
                <a:moveTo>
                  <a:pt x="14213" y="10864"/>
                </a:moveTo>
                <a:cubicBezTo>
                  <a:pt x="14369" y="11052"/>
                  <a:pt x="14593" y="11232"/>
                  <a:pt x="14560" y="11509"/>
                </a:cubicBezTo>
                <a:cubicBezTo>
                  <a:pt x="14492" y="11668"/>
                  <a:pt x="14479" y="11714"/>
                  <a:pt x="1438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78000" y="5000760"/>
            <a:ext cx="984240" cy="258480"/>
          </a:xfrm>
          <a:custGeom>
            <a:avLst/>
            <a:gdLst/>
            <a:ahLst/>
            <a:rect l="l" t="t" r="r" b="b"/>
            <a:pathLst>
              <a:path w="2730" h="720">
                <a:moveTo>
                  <a:pt x="6052" y="13891"/>
                </a:moveTo>
                <a:cubicBezTo>
                  <a:pt x="6074" y="14066"/>
                  <a:pt x="6094" y="14236"/>
                  <a:pt x="6102" y="14412"/>
                </a:cubicBezTo>
              </a:path>
              <a:path w="2730" h="720">
                <a:moveTo>
                  <a:pt x="6449" y="13891"/>
                </a:moveTo>
                <a:cubicBezTo>
                  <a:pt x="6311" y="14045"/>
                  <a:pt x="6332" y="14192"/>
                  <a:pt x="6375" y="14387"/>
                </a:cubicBezTo>
                <a:cubicBezTo>
                  <a:pt x="6557" y="14387"/>
                  <a:pt x="6836" y="14310"/>
                  <a:pt x="6697" y="14039"/>
                </a:cubicBezTo>
                <a:cubicBezTo>
                  <a:pt x="6591" y="13960"/>
                  <a:pt x="6550" y="13935"/>
                  <a:pt x="6449" y="13965"/>
                </a:cubicBezTo>
              </a:path>
              <a:path w="2730" h="720">
                <a:moveTo>
                  <a:pt x="6921" y="13965"/>
                </a:moveTo>
                <a:cubicBezTo>
                  <a:pt x="6792" y="14174"/>
                  <a:pt x="6766" y="14267"/>
                  <a:pt x="6871" y="14486"/>
                </a:cubicBezTo>
                <a:cubicBezTo>
                  <a:pt x="7024" y="14415"/>
                  <a:pt x="7399" y="14215"/>
                  <a:pt x="7144" y="13990"/>
                </a:cubicBezTo>
                <a:cubicBezTo>
                  <a:pt x="7004" y="13930"/>
                  <a:pt x="6982" y="13916"/>
                  <a:pt x="6896" y="13891"/>
                </a:cubicBezTo>
              </a:path>
              <a:path w="2730" h="720">
                <a:moveTo>
                  <a:pt x="7342" y="14387"/>
                </a:moveTo>
                <a:cubicBezTo>
                  <a:pt x="7323" y="14461"/>
                  <a:pt x="7303" y="14535"/>
                  <a:pt x="7293" y="14610"/>
                </a:cubicBezTo>
              </a:path>
              <a:path w="2730" h="720">
                <a:moveTo>
                  <a:pt x="7590" y="14064"/>
                </a:moveTo>
                <a:cubicBezTo>
                  <a:pt x="7454" y="14089"/>
                  <a:pt x="7345" y="14256"/>
                  <a:pt x="7417" y="14412"/>
                </a:cubicBezTo>
                <a:cubicBezTo>
                  <a:pt x="7450" y="14437"/>
                  <a:pt x="7483" y="14461"/>
                  <a:pt x="7516" y="14486"/>
                </a:cubicBezTo>
                <a:cubicBezTo>
                  <a:pt x="7650" y="14412"/>
                  <a:pt x="7970" y="14225"/>
                  <a:pt x="7739" y="14039"/>
                </a:cubicBezTo>
                <a:cubicBezTo>
                  <a:pt x="7698" y="14031"/>
                  <a:pt x="7656" y="14023"/>
                  <a:pt x="7615" y="14015"/>
                </a:cubicBezTo>
              </a:path>
              <a:path w="2730" h="720">
                <a:moveTo>
                  <a:pt x="8136" y="13965"/>
                </a:moveTo>
                <a:cubicBezTo>
                  <a:pt x="7964" y="13978"/>
                  <a:pt x="7813" y="14018"/>
                  <a:pt x="7813" y="14238"/>
                </a:cubicBezTo>
                <a:cubicBezTo>
                  <a:pt x="7830" y="14279"/>
                  <a:pt x="7846" y="14321"/>
                  <a:pt x="7863" y="14362"/>
                </a:cubicBezTo>
                <a:cubicBezTo>
                  <a:pt x="8012" y="14382"/>
                  <a:pt x="8416" y="14350"/>
                  <a:pt x="8260" y="14064"/>
                </a:cubicBezTo>
                <a:cubicBezTo>
                  <a:pt x="8163" y="14016"/>
                  <a:pt x="8133" y="14001"/>
                  <a:pt x="8062" y="13990"/>
                </a:cubicBezTo>
              </a:path>
              <a:path w="2730" h="720">
                <a:moveTo>
                  <a:pt x="8533" y="13915"/>
                </a:moveTo>
                <a:cubicBezTo>
                  <a:pt x="8372" y="13996"/>
                  <a:pt x="8269" y="14081"/>
                  <a:pt x="8285" y="14288"/>
                </a:cubicBezTo>
                <a:cubicBezTo>
                  <a:pt x="8301" y="14329"/>
                  <a:pt x="8318" y="14371"/>
                  <a:pt x="8334" y="14412"/>
                </a:cubicBezTo>
                <a:cubicBezTo>
                  <a:pt x="8550" y="14422"/>
                  <a:pt x="8804" y="14363"/>
                  <a:pt x="8781" y="14064"/>
                </a:cubicBezTo>
                <a:cubicBezTo>
                  <a:pt x="8767" y="13877"/>
                  <a:pt x="8555" y="13902"/>
                  <a:pt x="8434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03720" y="4991040"/>
            <a:ext cx="1250640" cy="260280"/>
          </a:xfrm>
          <a:custGeom>
            <a:avLst/>
            <a:gdLst/>
            <a:ahLst/>
            <a:rect l="l" t="t" r="r" b="b"/>
            <a:pathLst>
              <a:path w="3473" h="720">
                <a:moveTo>
                  <a:pt x="9277" y="13940"/>
                </a:moveTo>
                <a:cubicBezTo>
                  <a:pt x="9291" y="14064"/>
                  <a:pt x="9298" y="14196"/>
                  <a:pt x="9327" y="14312"/>
                </a:cubicBezTo>
              </a:path>
              <a:path w="3473" h="720">
                <a:moveTo>
                  <a:pt x="9178" y="14089"/>
                </a:moveTo>
                <a:cubicBezTo>
                  <a:pt x="9342" y="14113"/>
                  <a:pt x="9392" y="14121"/>
                  <a:pt x="9500" y="14114"/>
                </a:cubicBezTo>
              </a:path>
              <a:path w="3473" h="720">
                <a:moveTo>
                  <a:pt x="9649" y="13891"/>
                </a:moveTo>
                <a:cubicBezTo>
                  <a:pt x="9756" y="13891"/>
                  <a:pt x="9864" y="13891"/>
                  <a:pt x="9971" y="13891"/>
                </a:cubicBezTo>
                <a:cubicBezTo>
                  <a:pt x="9978" y="14075"/>
                  <a:pt x="9959" y="14185"/>
                  <a:pt x="9897" y="14362"/>
                </a:cubicBezTo>
              </a:path>
              <a:path w="3473" h="720">
                <a:moveTo>
                  <a:pt x="10195" y="13891"/>
                </a:moveTo>
                <a:cubicBezTo>
                  <a:pt x="10029" y="14041"/>
                  <a:pt x="10026" y="14142"/>
                  <a:pt x="10046" y="14362"/>
                </a:cubicBezTo>
                <a:cubicBezTo>
                  <a:pt x="10210" y="14386"/>
                  <a:pt x="10531" y="14345"/>
                  <a:pt x="10443" y="14064"/>
                </a:cubicBezTo>
                <a:cubicBezTo>
                  <a:pt x="10344" y="13940"/>
                  <a:pt x="10312" y="13899"/>
                  <a:pt x="10195" y="13891"/>
                </a:cubicBezTo>
              </a:path>
              <a:path w="3473" h="720">
                <a:moveTo>
                  <a:pt x="10542" y="14436"/>
                </a:moveTo>
                <a:cubicBezTo>
                  <a:pt x="10534" y="14477"/>
                  <a:pt x="10525" y="14519"/>
                  <a:pt x="10517" y="14560"/>
                </a:cubicBezTo>
              </a:path>
              <a:path w="3473" h="720">
                <a:moveTo>
                  <a:pt x="10864" y="13915"/>
                </a:moveTo>
                <a:cubicBezTo>
                  <a:pt x="10699" y="14017"/>
                  <a:pt x="10648" y="14121"/>
                  <a:pt x="10616" y="14312"/>
                </a:cubicBezTo>
                <a:cubicBezTo>
                  <a:pt x="10732" y="14308"/>
                  <a:pt x="11266" y="14225"/>
                  <a:pt x="11063" y="13965"/>
                </a:cubicBezTo>
                <a:cubicBezTo>
                  <a:pt x="10927" y="13897"/>
                  <a:pt x="10891" y="13873"/>
                  <a:pt x="10790" y="13891"/>
                </a:cubicBezTo>
              </a:path>
              <a:path w="3473" h="720">
                <a:moveTo>
                  <a:pt x="11435" y="13891"/>
                </a:moveTo>
                <a:cubicBezTo>
                  <a:pt x="11303" y="13869"/>
                  <a:pt x="11143" y="13920"/>
                  <a:pt x="11112" y="14089"/>
                </a:cubicBezTo>
                <a:cubicBezTo>
                  <a:pt x="11120" y="14130"/>
                  <a:pt x="11129" y="14172"/>
                  <a:pt x="11137" y="14213"/>
                </a:cubicBezTo>
                <a:cubicBezTo>
                  <a:pt x="11276" y="14283"/>
                  <a:pt x="11604" y="14362"/>
                  <a:pt x="11584" y="14064"/>
                </a:cubicBezTo>
                <a:cubicBezTo>
                  <a:pt x="11573" y="13904"/>
                  <a:pt x="11393" y="13913"/>
                  <a:pt x="11286" y="13891"/>
                </a:cubicBezTo>
              </a:path>
              <a:path w="3473" h="720">
                <a:moveTo>
                  <a:pt x="11757" y="13866"/>
                </a:moveTo>
                <a:cubicBezTo>
                  <a:pt x="11531" y="14007"/>
                  <a:pt x="11520" y="14070"/>
                  <a:pt x="11609" y="14312"/>
                </a:cubicBezTo>
                <a:cubicBezTo>
                  <a:pt x="11785" y="14347"/>
                  <a:pt x="12023" y="14313"/>
                  <a:pt x="11981" y="14039"/>
                </a:cubicBezTo>
                <a:cubicBezTo>
                  <a:pt x="11908" y="13895"/>
                  <a:pt x="11888" y="13847"/>
                  <a:pt x="11757" y="13866"/>
                </a:cubicBezTo>
              </a:path>
              <a:path w="3473" h="720">
                <a:moveTo>
                  <a:pt x="12179" y="14387"/>
                </a:moveTo>
                <a:cubicBezTo>
                  <a:pt x="12179" y="14486"/>
                  <a:pt x="12179" y="14519"/>
                  <a:pt x="12179" y="14585"/>
                </a:cubicBezTo>
              </a:path>
              <a:path w="3473" h="720">
                <a:moveTo>
                  <a:pt x="12402" y="13940"/>
                </a:moveTo>
                <a:cubicBezTo>
                  <a:pt x="12456" y="14032"/>
                  <a:pt x="12469" y="14101"/>
                  <a:pt x="12477" y="14213"/>
                </a:cubicBezTo>
              </a:path>
              <a:path w="3473" h="720">
                <a:moveTo>
                  <a:pt x="12378" y="14015"/>
                </a:moveTo>
                <a:cubicBezTo>
                  <a:pt x="12517" y="13991"/>
                  <a:pt x="12558" y="13983"/>
                  <a:pt x="12650" y="13990"/>
                </a:cubicBezTo>
              </a:path>
              <a:path w="3473" h="720">
                <a:moveTo>
                  <a:pt x="12105" y="14213"/>
                </a:moveTo>
                <a:cubicBezTo>
                  <a:pt x="12241" y="14213"/>
                  <a:pt x="12158" y="14243"/>
                  <a:pt x="12080" y="14337"/>
                </a:cubicBezTo>
                <a:cubicBezTo>
                  <a:pt x="12121" y="14337"/>
                  <a:pt x="12163" y="14337"/>
                  <a:pt x="12204" y="14337"/>
                </a:cubicBezTo>
                <a:cubicBezTo>
                  <a:pt x="12191" y="14470"/>
                  <a:pt x="12227" y="14451"/>
                  <a:pt x="12105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97280" y="4946760"/>
            <a:ext cx="714600" cy="287280"/>
          </a:xfrm>
          <a:custGeom>
            <a:avLst/>
            <a:gdLst/>
            <a:ahLst/>
            <a:rect l="l" t="t" r="r" b="b"/>
            <a:pathLst>
              <a:path w="1986" h="795">
                <a:moveTo>
                  <a:pt x="13047" y="13940"/>
                </a:moveTo>
                <a:cubicBezTo>
                  <a:pt x="13114" y="13962"/>
                  <a:pt x="13005" y="14112"/>
                  <a:pt x="13097" y="14163"/>
                </a:cubicBezTo>
                <a:cubicBezTo>
                  <a:pt x="13157" y="14196"/>
                  <a:pt x="13325" y="14143"/>
                  <a:pt x="13395" y="14139"/>
                </a:cubicBezTo>
              </a:path>
              <a:path w="1986" h="795">
                <a:moveTo>
                  <a:pt x="13345" y="13742"/>
                </a:moveTo>
                <a:cubicBezTo>
                  <a:pt x="13336" y="13966"/>
                  <a:pt x="13320" y="14187"/>
                  <a:pt x="13320" y="14412"/>
                </a:cubicBezTo>
              </a:path>
              <a:path w="1986" h="795">
                <a:moveTo>
                  <a:pt x="13519" y="14412"/>
                </a:moveTo>
                <a:cubicBezTo>
                  <a:pt x="13511" y="14453"/>
                  <a:pt x="13502" y="14495"/>
                  <a:pt x="13494" y="14536"/>
                </a:cubicBezTo>
              </a:path>
              <a:path w="1986" h="795">
                <a:moveTo>
                  <a:pt x="13841" y="13866"/>
                </a:moveTo>
                <a:cubicBezTo>
                  <a:pt x="13637" y="13988"/>
                  <a:pt x="13627" y="14098"/>
                  <a:pt x="13717" y="14312"/>
                </a:cubicBezTo>
                <a:cubicBezTo>
                  <a:pt x="13893" y="14279"/>
                  <a:pt x="14280" y="14134"/>
                  <a:pt x="13940" y="13940"/>
                </a:cubicBezTo>
                <a:cubicBezTo>
                  <a:pt x="13882" y="13924"/>
                  <a:pt x="13825" y="13907"/>
                  <a:pt x="13767" y="13891"/>
                </a:cubicBezTo>
              </a:path>
              <a:path w="1986" h="795">
                <a:moveTo>
                  <a:pt x="14263" y="13866"/>
                </a:moveTo>
                <a:cubicBezTo>
                  <a:pt x="14120" y="14000"/>
                  <a:pt x="13967" y="14281"/>
                  <a:pt x="14312" y="14337"/>
                </a:cubicBezTo>
                <a:cubicBezTo>
                  <a:pt x="14573" y="14379"/>
                  <a:pt x="14722" y="14114"/>
                  <a:pt x="14486" y="13965"/>
                </a:cubicBezTo>
                <a:cubicBezTo>
                  <a:pt x="14436" y="13948"/>
                  <a:pt x="14387" y="13932"/>
                  <a:pt x="14337" y="13915"/>
                </a:cubicBezTo>
              </a:path>
              <a:path w="1986" h="795">
                <a:moveTo>
                  <a:pt x="14734" y="13891"/>
                </a:moveTo>
                <a:cubicBezTo>
                  <a:pt x="14568" y="13960"/>
                  <a:pt x="14377" y="14131"/>
                  <a:pt x="14610" y="14312"/>
                </a:cubicBezTo>
                <a:cubicBezTo>
                  <a:pt x="14779" y="14443"/>
                  <a:pt x="15101" y="14254"/>
                  <a:pt x="15032" y="14039"/>
                </a:cubicBezTo>
                <a:cubicBezTo>
                  <a:pt x="14928" y="13936"/>
                  <a:pt x="14890" y="13902"/>
                  <a:pt x="14784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72080" y="4973760"/>
            <a:ext cx="795240" cy="206280"/>
          </a:xfrm>
          <a:custGeom>
            <a:avLst/>
            <a:gdLst/>
            <a:ahLst/>
            <a:rect l="l" t="t" r="r" b="b"/>
            <a:pathLst>
              <a:path w="2209" h="572">
                <a:moveTo>
                  <a:pt x="15503" y="14015"/>
                </a:moveTo>
                <a:cubicBezTo>
                  <a:pt x="15479" y="14179"/>
                  <a:pt x="15471" y="14229"/>
                  <a:pt x="15478" y="14337"/>
                </a:cubicBezTo>
              </a:path>
              <a:path w="2209" h="572">
                <a:moveTo>
                  <a:pt x="15528" y="14114"/>
                </a:moveTo>
                <a:cubicBezTo>
                  <a:pt x="15776" y="14114"/>
                  <a:pt x="15860" y="14114"/>
                  <a:pt x="16024" y="14089"/>
                </a:cubicBezTo>
              </a:path>
              <a:path w="2209" h="572">
                <a:moveTo>
                  <a:pt x="16669" y="13940"/>
                </a:moveTo>
                <a:cubicBezTo>
                  <a:pt x="16570" y="13832"/>
                  <a:pt x="16391" y="13730"/>
                  <a:pt x="16297" y="13940"/>
                </a:cubicBezTo>
                <a:cubicBezTo>
                  <a:pt x="16297" y="13981"/>
                  <a:pt x="16297" y="14023"/>
                  <a:pt x="16297" y="14064"/>
                </a:cubicBezTo>
                <a:cubicBezTo>
                  <a:pt x="16567" y="14116"/>
                  <a:pt x="16542" y="14053"/>
                  <a:pt x="16669" y="13891"/>
                </a:cubicBezTo>
                <a:cubicBezTo>
                  <a:pt x="16772" y="13760"/>
                  <a:pt x="16672" y="14222"/>
                  <a:pt x="16694" y="14387"/>
                </a:cubicBezTo>
              </a:path>
              <a:path w="2209" h="572">
                <a:moveTo>
                  <a:pt x="16991" y="13891"/>
                </a:moveTo>
                <a:cubicBezTo>
                  <a:pt x="16868" y="14022"/>
                  <a:pt x="16843" y="14059"/>
                  <a:pt x="16842" y="14238"/>
                </a:cubicBezTo>
                <a:cubicBezTo>
                  <a:pt x="16980" y="14269"/>
                  <a:pt x="17272" y="14242"/>
                  <a:pt x="17165" y="13990"/>
                </a:cubicBezTo>
                <a:cubicBezTo>
                  <a:pt x="17069" y="13894"/>
                  <a:pt x="17041" y="13862"/>
                  <a:pt x="16942" y="13866"/>
                </a:cubicBezTo>
              </a:path>
              <a:path w="2209" h="572">
                <a:moveTo>
                  <a:pt x="17363" y="13891"/>
                </a:moveTo>
                <a:cubicBezTo>
                  <a:pt x="17236" y="14026"/>
                  <a:pt x="17066" y="14205"/>
                  <a:pt x="17338" y="14312"/>
                </a:cubicBezTo>
                <a:cubicBezTo>
                  <a:pt x="17508" y="14378"/>
                  <a:pt x="17800" y="14240"/>
                  <a:pt x="17686" y="14015"/>
                </a:cubicBezTo>
                <a:cubicBezTo>
                  <a:pt x="17564" y="13917"/>
                  <a:pt x="17526" y="13884"/>
                  <a:pt x="17413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5018040"/>
            <a:ext cx="54000" cy="8100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18083" y="13940"/>
                </a:moveTo>
                <a:cubicBezTo>
                  <a:pt x="18105" y="14038"/>
                  <a:pt x="18132" y="14088"/>
                  <a:pt x="18182" y="14163"/>
                </a:cubicBezTo>
              </a:path>
              <a:path w="149" h="224">
                <a:moveTo>
                  <a:pt x="18083" y="14064"/>
                </a:moveTo>
                <a:cubicBezTo>
                  <a:pt x="18132" y="14056"/>
                  <a:pt x="18182" y="14047"/>
                  <a:pt x="18231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4964040"/>
            <a:ext cx="376200" cy="206280"/>
          </a:xfrm>
          <a:custGeom>
            <a:avLst/>
            <a:gdLst/>
            <a:ahLst/>
            <a:rect l="l" t="t" r="r" b="b"/>
            <a:pathLst>
              <a:path w="1043" h="572">
                <a:moveTo>
                  <a:pt x="18876" y="13791"/>
                </a:moveTo>
                <a:cubicBezTo>
                  <a:pt x="19020" y="13867"/>
                  <a:pt x="19291" y="14077"/>
                  <a:pt x="19075" y="14263"/>
                </a:cubicBezTo>
                <a:cubicBezTo>
                  <a:pt x="18929" y="14389"/>
                  <a:pt x="18802" y="14272"/>
                  <a:pt x="18703" y="14188"/>
                </a:cubicBezTo>
                <a:cubicBezTo>
                  <a:pt x="18894" y="14045"/>
                  <a:pt x="18929" y="14157"/>
                  <a:pt x="19100" y="14288"/>
                </a:cubicBezTo>
                <a:cubicBezTo>
                  <a:pt x="19116" y="14296"/>
                  <a:pt x="19133" y="14304"/>
                  <a:pt x="19149" y="14312"/>
                </a:cubicBezTo>
              </a:path>
              <a:path w="1043" h="572">
                <a:moveTo>
                  <a:pt x="19422" y="13816"/>
                </a:moveTo>
                <a:cubicBezTo>
                  <a:pt x="19240" y="13907"/>
                  <a:pt x="19222" y="14020"/>
                  <a:pt x="19174" y="14213"/>
                </a:cubicBezTo>
                <a:cubicBezTo>
                  <a:pt x="19333" y="14325"/>
                  <a:pt x="19635" y="14487"/>
                  <a:pt x="19745" y="14188"/>
                </a:cubicBezTo>
                <a:cubicBezTo>
                  <a:pt x="19830" y="13956"/>
                  <a:pt x="19609" y="13873"/>
                  <a:pt x="19447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2760" y="4938840"/>
            <a:ext cx="322200" cy="196560"/>
          </a:xfrm>
          <a:custGeom>
            <a:avLst/>
            <a:gdLst/>
            <a:ahLst/>
            <a:rect l="l" t="t" r="r" b="b"/>
            <a:pathLst>
              <a:path w="894" h="547">
                <a:moveTo>
                  <a:pt x="20216" y="13891"/>
                </a:moveTo>
                <a:cubicBezTo>
                  <a:pt x="20216" y="13982"/>
                  <a:pt x="20216" y="14072"/>
                  <a:pt x="20216" y="14163"/>
                </a:cubicBezTo>
              </a:path>
              <a:path w="894" h="547">
                <a:moveTo>
                  <a:pt x="20092" y="14015"/>
                </a:moveTo>
                <a:cubicBezTo>
                  <a:pt x="20248" y="13989"/>
                  <a:pt x="20305" y="13980"/>
                  <a:pt x="20414" y="13990"/>
                </a:cubicBezTo>
              </a:path>
              <a:path w="894" h="547">
                <a:moveTo>
                  <a:pt x="20985" y="13742"/>
                </a:moveTo>
                <a:cubicBezTo>
                  <a:pt x="20896" y="13736"/>
                  <a:pt x="20724" y="13662"/>
                  <a:pt x="20687" y="13767"/>
                </a:cubicBezTo>
                <a:cubicBezTo>
                  <a:pt x="20664" y="13879"/>
                  <a:pt x="20663" y="13910"/>
                  <a:pt x="20613" y="13965"/>
                </a:cubicBezTo>
                <a:cubicBezTo>
                  <a:pt x="20744" y="13965"/>
                  <a:pt x="20922" y="13923"/>
                  <a:pt x="20960" y="14089"/>
                </a:cubicBezTo>
                <a:cubicBezTo>
                  <a:pt x="21008" y="14300"/>
                  <a:pt x="20753" y="14249"/>
                  <a:pt x="20638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2040" y="5438880"/>
            <a:ext cx="384120" cy="295200"/>
          </a:xfrm>
          <a:custGeom>
            <a:avLst/>
            <a:gdLst/>
            <a:ahLst/>
            <a:rect l="l" t="t" r="r" b="b"/>
            <a:pathLst>
              <a:path w="1067" h="820">
                <a:moveTo>
                  <a:pt x="4589" y="15106"/>
                </a:moveTo>
                <a:cubicBezTo>
                  <a:pt x="4445" y="15229"/>
                  <a:pt x="4338" y="15522"/>
                  <a:pt x="4341" y="15726"/>
                </a:cubicBezTo>
                <a:cubicBezTo>
                  <a:pt x="4344" y="15919"/>
                  <a:pt x="4453" y="15908"/>
                  <a:pt x="4589" y="15925"/>
                </a:cubicBezTo>
              </a:path>
              <a:path w="1067" h="820">
                <a:moveTo>
                  <a:pt x="4837" y="15354"/>
                </a:moveTo>
                <a:cubicBezTo>
                  <a:pt x="4848" y="15488"/>
                  <a:pt x="4862" y="15616"/>
                  <a:pt x="4862" y="15751"/>
                </a:cubicBezTo>
              </a:path>
              <a:path w="1067" h="820">
                <a:moveTo>
                  <a:pt x="5060" y="15354"/>
                </a:moveTo>
                <a:cubicBezTo>
                  <a:pt x="5157" y="15484"/>
                  <a:pt x="5234" y="15627"/>
                  <a:pt x="5333" y="15751"/>
                </a:cubicBezTo>
              </a:path>
              <a:path w="1067" h="820">
                <a:moveTo>
                  <a:pt x="5407" y="15354"/>
                </a:moveTo>
                <a:cubicBezTo>
                  <a:pt x="5305" y="15485"/>
                  <a:pt x="5219" y="15614"/>
                  <a:pt x="5135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4160" y="5357880"/>
            <a:ext cx="633600" cy="376200"/>
          </a:xfrm>
          <a:custGeom>
            <a:avLst/>
            <a:gdLst/>
            <a:ahLst/>
            <a:rect l="l" t="t" r="r" b="b"/>
            <a:pathLst>
              <a:path w="1762" h="1043">
                <a:moveTo>
                  <a:pt x="5730" y="15354"/>
                </a:moveTo>
                <a:cubicBezTo>
                  <a:pt x="5749" y="15493"/>
                  <a:pt x="5739" y="15639"/>
                  <a:pt x="5705" y="15776"/>
                </a:cubicBezTo>
              </a:path>
              <a:path w="1762" h="1043">
                <a:moveTo>
                  <a:pt x="6028" y="15354"/>
                </a:moveTo>
                <a:cubicBezTo>
                  <a:pt x="5943" y="15502"/>
                  <a:pt x="5851" y="15649"/>
                  <a:pt x="5904" y="15825"/>
                </a:cubicBezTo>
                <a:cubicBezTo>
                  <a:pt x="5964" y="16022"/>
                  <a:pt x="6215" y="15897"/>
                  <a:pt x="6251" y="15751"/>
                </a:cubicBezTo>
                <a:cubicBezTo>
                  <a:pt x="6304" y="15535"/>
                  <a:pt x="6176" y="15441"/>
                  <a:pt x="6028" y="15329"/>
                </a:cubicBezTo>
              </a:path>
              <a:path w="1762" h="1043">
                <a:moveTo>
                  <a:pt x="6524" y="15007"/>
                </a:moveTo>
                <a:cubicBezTo>
                  <a:pt x="6390" y="14983"/>
                  <a:pt x="6404" y="15010"/>
                  <a:pt x="6350" y="15131"/>
                </a:cubicBezTo>
                <a:cubicBezTo>
                  <a:pt x="6459" y="15103"/>
                  <a:pt x="6593" y="15064"/>
                  <a:pt x="6598" y="15230"/>
                </a:cubicBezTo>
                <a:cubicBezTo>
                  <a:pt x="6602" y="15377"/>
                  <a:pt x="6502" y="15347"/>
                  <a:pt x="6400" y="15354"/>
                </a:cubicBezTo>
              </a:path>
              <a:path w="1762" h="1043">
                <a:moveTo>
                  <a:pt x="6648" y="14883"/>
                </a:moveTo>
                <a:cubicBezTo>
                  <a:pt x="6863" y="14992"/>
                  <a:pt x="6951" y="15255"/>
                  <a:pt x="6945" y="15503"/>
                </a:cubicBezTo>
                <a:cubicBezTo>
                  <a:pt x="6941" y="15691"/>
                  <a:pt x="6844" y="15786"/>
                  <a:pt x="6722" y="15900"/>
                </a:cubicBezTo>
              </a:path>
              <a:path w="1762" h="1043">
                <a:moveTo>
                  <a:pt x="7293" y="15379"/>
                </a:moveTo>
                <a:cubicBezTo>
                  <a:pt x="7293" y="15486"/>
                  <a:pt x="7293" y="15594"/>
                  <a:pt x="7293" y="15701"/>
                </a:cubicBezTo>
              </a:path>
              <a:path w="1762" h="1043">
                <a:moveTo>
                  <a:pt x="7144" y="15528"/>
                </a:moveTo>
                <a:cubicBezTo>
                  <a:pt x="7253" y="15506"/>
                  <a:pt x="7353" y="15503"/>
                  <a:pt x="746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5322960"/>
            <a:ext cx="1027080" cy="384120"/>
          </a:xfrm>
          <a:custGeom>
            <a:avLst/>
            <a:gdLst/>
            <a:ahLst/>
            <a:rect l="l" t="t" r="r" b="b"/>
            <a:pathLst>
              <a:path w="2853" h="1067">
                <a:moveTo>
                  <a:pt x="7863" y="14982"/>
                </a:moveTo>
                <a:cubicBezTo>
                  <a:pt x="7798" y="15249"/>
                  <a:pt x="7664" y="15554"/>
                  <a:pt x="7913" y="15776"/>
                </a:cubicBezTo>
                <a:cubicBezTo>
                  <a:pt x="7938" y="15784"/>
                  <a:pt x="7962" y="15793"/>
                  <a:pt x="7987" y="15801"/>
                </a:cubicBezTo>
              </a:path>
              <a:path w="2853" h="1067">
                <a:moveTo>
                  <a:pt x="8037" y="15230"/>
                </a:moveTo>
                <a:cubicBezTo>
                  <a:pt x="8166" y="15250"/>
                  <a:pt x="8284" y="15269"/>
                  <a:pt x="8409" y="15304"/>
                </a:cubicBezTo>
                <a:cubicBezTo>
                  <a:pt x="8376" y="15443"/>
                  <a:pt x="8336" y="15566"/>
                  <a:pt x="8285" y="15701"/>
                </a:cubicBezTo>
              </a:path>
              <a:path w="2853" h="1067">
                <a:moveTo>
                  <a:pt x="8682" y="15354"/>
                </a:moveTo>
                <a:cubicBezTo>
                  <a:pt x="8766" y="15471"/>
                  <a:pt x="8862" y="15588"/>
                  <a:pt x="8954" y="15701"/>
                </a:cubicBezTo>
              </a:path>
              <a:path w="2853" h="1067">
                <a:moveTo>
                  <a:pt x="8930" y="15280"/>
                </a:moveTo>
                <a:cubicBezTo>
                  <a:pt x="8806" y="15413"/>
                  <a:pt x="8748" y="15572"/>
                  <a:pt x="8682" y="15751"/>
                </a:cubicBezTo>
              </a:path>
              <a:path w="2853" h="1067">
                <a:moveTo>
                  <a:pt x="9128" y="15329"/>
                </a:moveTo>
                <a:cubicBezTo>
                  <a:pt x="9201" y="15493"/>
                  <a:pt x="9175" y="15648"/>
                  <a:pt x="9153" y="15825"/>
                </a:cubicBezTo>
              </a:path>
              <a:path w="2853" h="1067">
                <a:moveTo>
                  <a:pt x="9500" y="15354"/>
                </a:moveTo>
                <a:cubicBezTo>
                  <a:pt x="9404" y="15520"/>
                  <a:pt x="9369" y="15589"/>
                  <a:pt x="9351" y="15776"/>
                </a:cubicBezTo>
                <a:cubicBezTo>
                  <a:pt x="9497" y="15859"/>
                  <a:pt x="9694" y="15868"/>
                  <a:pt x="9723" y="15627"/>
                </a:cubicBezTo>
                <a:cubicBezTo>
                  <a:pt x="9743" y="15466"/>
                  <a:pt x="9620" y="15383"/>
                  <a:pt x="9525" y="15280"/>
                </a:cubicBezTo>
              </a:path>
              <a:path w="2853" h="1067">
                <a:moveTo>
                  <a:pt x="9798" y="15056"/>
                </a:moveTo>
                <a:cubicBezTo>
                  <a:pt x="9798" y="15132"/>
                  <a:pt x="9798" y="15158"/>
                  <a:pt x="9773" y="15205"/>
                </a:cubicBezTo>
                <a:cubicBezTo>
                  <a:pt x="9860" y="15263"/>
                  <a:pt x="9864" y="15244"/>
                  <a:pt x="9971" y="15230"/>
                </a:cubicBezTo>
              </a:path>
              <a:path w="2853" h="1067">
                <a:moveTo>
                  <a:pt x="10021" y="15007"/>
                </a:moveTo>
                <a:cubicBezTo>
                  <a:pt x="9975" y="15131"/>
                  <a:pt x="9950" y="15248"/>
                  <a:pt x="9922" y="15379"/>
                </a:cubicBezTo>
              </a:path>
              <a:path w="2853" h="1067">
                <a:moveTo>
                  <a:pt x="10046" y="14784"/>
                </a:moveTo>
                <a:cubicBezTo>
                  <a:pt x="10209" y="15042"/>
                  <a:pt x="10280" y="15318"/>
                  <a:pt x="10195" y="15627"/>
                </a:cubicBezTo>
                <a:cubicBezTo>
                  <a:pt x="10170" y="15677"/>
                  <a:pt x="10145" y="15726"/>
                  <a:pt x="10120" y="15776"/>
                </a:cubicBezTo>
              </a:path>
              <a:path w="2853" h="1067">
                <a:moveTo>
                  <a:pt x="10517" y="15205"/>
                </a:moveTo>
                <a:cubicBezTo>
                  <a:pt x="10517" y="15329"/>
                  <a:pt x="10517" y="15453"/>
                  <a:pt x="10517" y="15577"/>
                </a:cubicBezTo>
              </a:path>
              <a:path w="2853" h="1067">
                <a:moveTo>
                  <a:pt x="10468" y="15404"/>
                </a:moveTo>
                <a:cubicBezTo>
                  <a:pt x="10517" y="15396"/>
                  <a:pt x="10567" y="15387"/>
                  <a:pt x="10616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6040" y="5375160"/>
            <a:ext cx="268200" cy="295560"/>
          </a:xfrm>
          <a:custGeom>
            <a:avLst/>
            <a:gdLst/>
            <a:ahLst/>
            <a:rect l="l" t="t" r="r" b="b"/>
            <a:pathLst>
              <a:path w="746" h="820">
                <a:moveTo>
                  <a:pt x="11212" y="14932"/>
                </a:moveTo>
                <a:cubicBezTo>
                  <a:pt x="11104" y="15105"/>
                  <a:pt x="10896" y="15457"/>
                  <a:pt x="11013" y="15677"/>
                </a:cubicBezTo>
                <a:cubicBezTo>
                  <a:pt x="11054" y="15702"/>
                  <a:pt x="11096" y="15726"/>
                  <a:pt x="11137" y="15751"/>
                </a:cubicBezTo>
              </a:path>
              <a:path w="746" h="820">
                <a:moveTo>
                  <a:pt x="11534" y="15230"/>
                </a:moveTo>
                <a:cubicBezTo>
                  <a:pt x="11489" y="15386"/>
                  <a:pt x="11494" y="15394"/>
                  <a:pt x="11385" y="15503"/>
                </a:cubicBezTo>
                <a:cubicBezTo>
                  <a:pt x="11436" y="15384"/>
                  <a:pt x="11557" y="15431"/>
                  <a:pt x="11683" y="15453"/>
                </a:cubicBezTo>
              </a:path>
              <a:path w="746" h="820">
                <a:moveTo>
                  <a:pt x="11683" y="15081"/>
                </a:moveTo>
                <a:cubicBezTo>
                  <a:pt x="11708" y="15279"/>
                  <a:pt x="11692" y="15487"/>
                  <a:pt x="11733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21080" y="5483160"/>
            <a:ext cx="135000" cy="160560"/>
          </a:xfrm>
          <a:custGeom>
            <a:avLst/>
            <a:gdLst/>
            <a:ahLst/>
            <a:rect l="l" t="t" r="r" b="b"/>
            <a:pathLst>
              <a:path w="374" h="448">
                <a:moveTo>
                  <a:pt x="12030" y="15230"/>
                </a:moveTo>
                <a:cubicBezTo>
                  <a:pt x="12099" y="15401"/>
                  <a:pt x="12160" y="15512"/>
                  <a:pt x="12278" y="15652"/>
                </a:cubicBezTo>
              </a:path>
              <a:path w="374" h="448">
                <a:moveTo>
                  <a:pt x="12378" y="15230"/>
                </a:moveTo>
                <a:cubicBezTo>
                  <a:pt x="12257" y="15384"/>
                  <a:pt x="12137" y="15533"/>
                  <a:pt x="12005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62640" y="5330880"/>
            <a:ext cx="403200" cy="36648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12675" y="15230"/>
                </a:moveTo>
                <a:cubicBezTo>
                  <a:pt x="12675" y="15387"/>
                  <a:pt x="12675" y="15544"/>
                  <a:pt x="12675" y="15701"/>
                </a:cubicBezTo>
              </a:path>
              <a:path w="1117" h="1018">
                <a:moveTo>
                  <a:pt x="13022" y="15230"/>
                </a:moveTo>
                <a:cubicBezTo>
                  <a:pt x="12903" y="15410"/>
                  <a:pt x="12850" y="15512"/>
                  <a:pt x="12874" y="15726"/>
                </a:cubicBezTo>
                <a:cubicBezTo>
                  <a:pt x="13069" y="15784"/>
                  <a:pt x="13191" y="15752"/>
                  <a:pt x="13196" y="15503"/>
                </a:cubicBezTo>
                <a:cubicBezTo>
                  <a:pt x="13199" y="15318"/>
                  <a:pt x="13137" y="15326"/>
                  <a:pt x="12998" y="15280"/>
                </a:cubicBezTo>
              </a:path>
              <a:path w="1117" h="1018">
                <a:moveTo>
                  <a:pt x="13320" y="14957"/>
                </a:moveTo>
                <a:cubicBezTo>
                  <a:pt x="13437" y="15040"/>
                  <a:pt x="13377" y="15073"/>
                  <a:pt x="13271" y="15131"/>
                </a:cubicBezTo>
                <a:cubicBezTo>
                  <a:pt x="13391" y="15141"/>
                  <a:pt x="13484" y="15157"/>
                  <a:pt x="13419" y="15304"/>
                </a:cubicBezTo>
                <a:cubicBezTo>
                  <a:pt x="13333" y="15499"/>
                  <a:pt x="13257" y="15369"/>
                  <a:pt x="13221" y="15255"/>
                </a:cubicBezTo>
              </a:path>
              <a:path w="1117" h="1018">
                <a:moveTo>
                  <a:pt x="13519" y="14808"/>
                </a:moveTo>
                <a:cubicBezTo>
                  <a:pt x="13647" y="14989"/>
                  <a:pt x="13809" y="15293"/>
                  <a:pt x="13791" y="15528"/>
                </a:cubicBezTo>
                <a:cubicBezTo>
                  <a:pt x="13723" y="15710"/>
                  <a:pt x="13712" y="15765"/>
                  <a:pt x="13593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2040" y="5429160"/>
            <a:ext cx="44640" cy="125640"/>
          </a:xfrm>
          <a:custGeom>
            <a:avLst/>
            <a:gdLst/>
            <a:ahLst/>
            <a:rect l="l" t="t" r="r" b="b"/>
            <a:pathLst>
              <a:path w="125" h="349">
                <a:moveTo>
                  <a:pt x="14114" y="15081"/>
                </a:moveTo>
                <a:cubicBezTo>
                  <a:pt x="14154" y="15203"/>
                  <a:pt x="14179" y="15300"/>
                  <a:pt x="14188" y="15429"/>
                </a:cubicBezTo>
              </a:path>
              <a:path w="125" h="349">
                <a:moveTo>
                  <a:pt x="14089" y="15304"/>
                </a:moveTo>
                <a:cubicBezTo>
                  <a:pt x="14130" y="15304"/>
                  <a:pt x="14172" y="15304"/>
                  <a:pt x="14213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24320" y="5392800"/>
            <a:ext cx="231840" cy="277920"/>
          </a:xfrm>
          <a:custGeom>
            <a:avLst/>
            <a:gdLst/>
            <a:ahLst/>
            <a:rect l="l" t="t" r="r" b="b"/>
            <a:pathLst>
              <a:path w="646" h="770">
                <a:moveTo>
                  <a:pt x="14585" y="14982"/>
                </a:moveTo>
                <a:cubicBezTo>
                  <a:pt x="14544" y="15177"/>
                  <a:pt x="14364" y="15668"/>
                  <a:pt x="14684" y="15751"/>
                </a:cubicBezTo>
                <a:cubicBezTo>
                  <a:pt x="14796" y="15728"/>
                  <a:pt x="14827" y="15727"/>
                  <a:pt x="14883" y="15677"/>
                </a:cubicBezTo>
              </a:path>
              <a:path w="646" h="770">
                <a:moveTo>
                  <a:pt x="15156" y="15304"/>
                </a:moveTo>
                <a:cubicBezTo>
                  <a:pt x="15142" y="15190"/>
                  <a:pt x="15064" y="15032"/>
                  <a:pt x="14908" y="15081"/>
                </a:cubicBezTo>
                <a:cubicBezTo>
                  <a:pt x="14810" y="15178"/>
                  <a:pt x="14777" y="15209"/>
                  <a:pt x="14759" y="15304"/>
                </a:cubicBezTo>
                <a:cubicBezTo>
                  <a:pt x="14930" y="15408"/>
                  <a:pt x="15009" y="15401"/>
                  <a:pt x="15156" y="15255"/>
                </a:cubicBezTo>
                <a:cubicBezTo>
                  <a:pt x="15156" y="15387"/>
                  <a:pt x="15156" y="15520"/>
                  <a:pt x="15156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4800" y="5483160"/>
            <a:ext cx="81000" cy="15264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15429" y="15255"/>
                </a:moveTo>
                <a:cubicBezTo>
                  <a:pt x="15524" y="15374"/>
                  <a:pt x="15553" y="15411"/>
                  <a:pt x="15627" y="15478"/>
                </a:cubicBezTo>
              </a:path>
              <a:path w="224" h="423">
                <a:moveTo>
                  <a:pt x="15652" y="15230"/>
                </a:moveTo>
                <a:cubicBezTo>
                  <a:pt x="15572" y="15374"/>
                  <a:pt x="15505" y="15498"/>
                  <a:pt x="15453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6000" y="5295960"/>
            <a:ext cx="2419200" cy="401400"/>
          </a:xfrm>
          <a:custGeom>
            <a:avLst/>
            <a:gdLst/>
            <a:ahLst/>
            <a:rect l="l" t="t" r="r" b="b"/>
            <a:pathLst>
              <a:path w="6723" h="1117">
                <a:moveTo>
                  <a:pt x="16098" y="15180"/>
                </a:moveTo>
                <a:cubicBezTo>
                  <a:pt x="16133" y="15352"/>
                  <a:pt x="16159" y="15526"/>
                  <a:pt x="16173" y="15701"/>
                </a:cubicBezTo>
              </a:path>
              <a:path w="6723" h="1117">
                <a:moveTo>
                  <a:pt x="16520" y="15205"/>
                </a:moveTo>
                <a:cubicBezTo>
                  <a:pt x="16366" y="15282"/>
                  <a:pt x="16267" y="15459"/>
                  <a:pt x="16297" y="15652"/>
                </a:cubicBezTo>
                <a:cubicBezTo>
                  <a:pt x="16313" y="15685"/>
                  <a:pt x="16330" y="15718"/>
                  <a:pt x="16346" y="15751"/>
                </a:cubicBezTo>
                <a:cubicBezTo>
                  <a:pt x="16522" y="15751"/>
                  <a:pt x="16726" y="15676"/>
                  <a:pt x="16669" y="15429"/>
                </a:cubicBezTo>
                <a:cubicBezTo>
                  <a:pt x="16596" y="15308"/>
                  <a:pt x="16575" y="15267"/>
                  <a:pt x="16470" y="15255"/>
                </a:cubicBezTo>
              </a:path>
              <a:path w="6723" h="1117">
                <a:moveTo>
                  <a:pt x="16818" y="14932"/>
                </a:moveTo>
                <a:cubicBezTo>
                  <a:pt x="16901" y="15009"/>
                  <a:pt x="17110" y="15232"/>
                  <a:pt x="16867" y="15255"/>
                </a:cubicBezTo>
                <a:cubicBezTo>
                  <a:pt x="16755" y="15266"/>
                  <a:pt x="16736" y="15182"/>
                  <a:pt x="16694" y="15106"/>
                </a:cubicBezTo>
                <a:cubicBezTo>
                  <a:pt x="16775" y="15116"/>
                  <a:pt x="16813" y="15141"/>
                  <a:pt x="16892" y="15180"/>
                </a:cubicBezTo>
              </a:path>
              <a:path w="6723" h="1117">
                <a:moveTo>
                  <a:pt x="17066" y="14784"/>
                </a:moveTo>
                <a:cubicBezTo>
                  <a:pt x="17229" y="15049"/>
                  <a:pt x="17540" y="15377"/>
                  <a:pt x="17289" y="15677"/>
                </a:cubicBezTo>
                <a:cubicBezTo>
                  <a:pt x="17256" y="15693"/>
                  <a:pt x="17223" y="15710"/>
                  <a:pt x="17190" y="15726"/>
                </a:cubicBezTo>
              </a:path>
              <a:path w="6723" h="1117">
                <a:moveTo>
                  <a:pt x="17537" y="15230"/>
                </a:moveTo>
                <a:cubicBezTo>
                  <a:pt x="17589" y="15334"/>
                  <a:pt x="17607" y="15372"/>
                  <a:pt x="17611" y="15453"/>
                </a:cubicBezTo>
              </a:path>
              <a:path w="6723" h="1117">
                <a:moveTo>
                  <a:pt x="17537" y="15379"/>
                </a:moveTo>
                <a:cubicBezTo>
                  <a:pt x="17595" y="15379"/>
                  <a:pt x="17636" y="15379"/>
                  <a:pt x="17686" y="15379"/>
                </a:cubicBezTo>
              </a:path>
              <a:path w="6723" h="1117">
                <a:moveTo>
                  <a:pt x="17934" y="14908"/>
                </a:moveTo>
                <a:cubicBezTo>
                  <a:pt x="17830" y="15128"/>
                  <a:pt x="17574" y="15492"/>
                  <a:pt x="17785" y="15726"/>
                </a:cubicBezTo>
                <a:cubicBezTo>
                  <a:pt x="17936" y="15802"/>
                  <a:pt x="17988" y="15827"/>
                  <a:pt x="18107" y="15801"/>
                </a:cubicBezTo>
              </a:path>
              <a:path w="6723" h="1117">
                <a:moveTo>
                  <a:pt x="18107" y="15230"/>
                </a:moveTo>
                <a:cubicBezTo>
                  <a:pt x="18281" y="15230"/>
                  <a:pt x="18384" y="15219"/>
                  <a:pt x="18231" y="15404"/>
                </a:cubicBezTo>
                <a:cubicBezTo>
                  <a:pt x="18198" y="15437"/>
                  <a:pt x="18165" y="15470"/>
                  <a:pt x="18132" y="15503"/>
                </a:cubicBezTo>
                <a:cubicBezTo>
                  <a:pt x="18132" y="15590"/>
                  <a:pt x="18326" y="15553"/>
                  <a:pt x="18380" y="15553"/>
                </a:cubicBezTo>
              </a:path>
              <a:path w="6723" h="1117">
                <a:moveTo>
                  <a:pt x="18554" y="15304"/>
                </a:moveTo>
                <a:cubicBezTo>
                  <a:pt x="18621" y="15395"/>
                  <a:pt x="18636" y="15422"/>
                  <a:pt x="18703" y="15453"/>
                </a:cubicBezTo>
              </a:path>
              <a:path w="6723" h="1117">
                <a:moveTo>
                  <a:pt x="18752" y="15230"/>
                </a:moveTo>
                <a:cubicBezTo>
                  <a:pt x="18649" y="15359"/>
                  <a:pt x="18612" y="15406"/>
                  <a:pt x="18554" y="15503"/>
                </a:cubicBezTo>
              </a:path>
              <a:path w="6723" h="1117">
                <a:moveTo>
                  <a:pt x="19025" y="15329"/>
                </a:moveTo>
                <a:cubicBezTo>
                  <a:pt x="19025" y="15478"/>
                  <a:pt x="19025" y="15511"/>
                  <a:pt x="19025" y="15602"/>
                </a:cubicBezTo>
              </a:path>
              <a:path w="6723" h="1117">
                <a:moveTo>
                  <a:pt x="19372" y="15230"/>
                </a:moveTo>
                <a:cubicBezTo>
                  <a:pt x="19252" y="15384"/>
                  <a:pt x="19196" y="15480"/>
                  <a:pt x="19224" y="15677"/>
                </a:cubicBezTo>
                <a:cubicBezTo>
                  <a:pt x="19325" y="15689"/>
                  <a:pt x="19590" y="15698"/>
                  <a:pt x="19546" y="15503"/>
                </a:cubicBezTo>
                <a:cubicBezTo>
                  <a:pt x="19521" y="15393"/>
                  <a:pt x="19382" y="15325"/>
                  <a:pt x="19298" y="15280"/>
                </a:cubicBezTo>
              </a:path>
              <a:path w="6723" h="1117">
                <a:moveTo>
                  <a:pt x="19596" y="15056"/>
                </a:moveTo>
                <a:cubicBezTo>
                  <a:pt x="19596" y="15147"/>
                  <a:pt x="19596" y="15172"/>
                  <a:pt x="19596" y="15230"/>
                </a:cubicBezTo>
              </a:path>
              <a:path w="6723" h="1117">
                <a:moveTo>
                  <a:pt x="19745" y="14833"/>
                </a:moveTo>
                <a:cubicBezTo>
                  <a:pt x="19882" y="15062"/>
                  <a:pt x="20018" y="15347"/>
                  <a:pt x="19968" y="15627"/>
                </a:cubicBezTo>
                <a:cubicBezTo>
                  <a:pt x="19905" y="15753"/>
                  <a:pt x="19901" y="15788"/>
                  <a:pt x="19819" y="15825"/>
                </a:cubicBezTo>
              </a:path>
              <a:path w="6723" h="1117">
                <a:moveTo>
                  <a:pt x="20191" y="15180"/>
                </a:moveTo>
                <a:cubicBezTo>
                  <a:pt x="20202" y="15255"/>
                  <a:pt x="20222" y="15330"/>
                  <a:pt x="20241" y="15404"/>
                </a:cubicBezTo>
              </a:path>
              <a:path w="6723" h="1117">
                <a:moveTo>
                  <a:pt x="20166" y="15329"/>
                </a:moveTo>
                <a:cubicBezTo>
                  <a:pt x="20207" y="15329"/>
                  <a:pt x="20249" y="15329"/>
                  <a:pt x="20290" y="15329"/>
                </a:cubicBezTo>
              </a:path>
              <a:path w="6723" h="1117">
                <a:moveTo>
                  <a:pt x="20687" y="14883"/>
                </a:moveTo>
                <a:cubicBezTo>
                  <a:pt x="20600" y="15113"/>
                  <a:pt x="20413" y="15450"/>
                  <a:pt x="20613" y="15677"/>
                </a:cubicBezTo>
                <a:cubicBezTo>
                  <a:pt x="20709" y="15724"/>
                  <a:pt x="20738" y="15741"/>
                  <a:pt x="20811" y="15726"/>
                </a:cubicBezTo>
              </a:path>
              <a:path w="6723" h="1117">
                <a:moveTo>
                  <a:pt x="21109" y="15106"/>
                </a:moveTo>
                <a:cubicBezTo>
                  <a:pt x="21060" y="15124"/>
                  <a:pt x="20867" y="15154"/>
                  <a:pt x="20836" y="15205"/>
                </a:cubicBezTo>
                <a:cubicBezTo>
                  <a:pt x="20794" y="15288"/>
                  <a:pt x="20786" y="15304"/>
                  <a:pt x="20762" y="15354"/>
                </a:cubicBezTo>
                <a:cubicBezTo>
                  <a:pt x="20856" y="15339"/>
                  <a:pt x="21107" y="15267"/>
                  <a:pt x="21134" y="15429"/>
                </a:cubicBezTo>
                <a:cubicBezTo>
                  <a:pt x="21162" y="15598"/>
                  <a:pt x="20982" y="15587"/>
                  <a:pt x="20886" y="15602"/>
                </a:cubicBezTo>
              </a:path>
              <a:path w="6723" h="1117">
                <a:moveTo>
                  <a:pt x="21233" y="15230"/>
                </a:moveTo>
                <a:cubicBezTo>
                  <a:pt x="21318" y="15315"/>
                  <a:pt x="21379" y="15407"/>
                  <a:pt x="21456" y="15503"/>
                </a:cubicBezTo>
              </a:path>
              <a:path w="6723" h="1117">
                <a:moveTo>
                  <a:pt x="21555" y="15131"/>
                </a:moveTo>
                <a:cubicBezTo>
                  <a:pt x="21422" y="15270"/>
                  <a:pt x="21314" y="15394"/>
                  <a:pt x="21208" y="15553"/>
                </a:cubicBezTo>
              </a:path>
              <a:path w="6723" h="1117">
                <a:moveTo>
                  <a:pt x="21803" y="15156"/>
                </a:moveTo>
                <a:cubicBezTo>
                  <a:pt x="21827" y="15320"/>
                  <a:pt x="21835" y="15370"/>
                  <a:pt x="21828" y="15478"/>
                </a:cubicBezTo>
              </a:path>
              <a:path w="6723" h="1117">
                <a:moveTo>
                  <a:pt x="22299" y="15131"/>
                </a:moveTo>
                <a:cubicBezTo>
                  <a:pt x="22136" y="15178"/>
                  <a:pt x="22025" y="15273"/>
                  <a:pt x="21977" y="15453"/>
                </a:cubicBezTo>
                <a:cubicBezTo>
                  <a:pt x="21977" y="15478"/>
                  <a:pt x="21977" y="15503"/>
                  <a:pt x="21977" y="15528"/>
                </a:cubicBezTo>
                <a:cubicBezTo>
                  <a:pt x="22109" y="15577"/>
                  <a:pt x="22313" y="15626"/>
                  <a:pt x="22374" y="15429"/>
                </a:cubicBezTo>
                <a:cubicBezTo>
                  <a:pt x="22402" y="15338"/>
                  <a:pt x="22252" y="15248"/>
                  <a:pt x="22200" y="15205"/>
                </a:cubicBezTo>
              </a:path>
              <a:path w="6723" h="1117">
                <a:moveTo>
                  <a:pt x="22473" y="14932"/>
                </a:moveTo>
                <a:cubicBezTo>
                  <a:pt x="22407" y="14944"/>
                  <a:pt x="22204" y="15055"/>
                  <a:pt x="22423" y="15056"/>
                </a:cubicBezTo>
                <a:cubicBezTo>
                  <a:pt x="22614" y="15057"/>
                  <a:pt x="22425" y="14949"/>
                  <a:pt x="22399" y="14932"/>
                </a:cubicBezTo>
              </a:path>
              <a:path w="6723" h="1117">
                <a:moveTo>
                  <a:pt x="22547" y="14709"/>
                </a:moveTo>
                <a:cubicBezTo>
                  <a:pt x="22792" y="14824"/>
                  <a:pt x="22848" y="14972"/>
                  <a:pt x="22820" y="15255"/>
                </a:cubicBezTo>
                <a:cubicBezTo>
                  <a:pt x="22803" y="15421"/>
                  <a:pt x="22742" y="15629"/>
                  <a:pt x="22572" y="15701"/>
                </a:cubicBezTo>
                <a:cubicBezTo>
                  <a:pt x="22564" y="15701"/>
                  <a:pt x="22555" y="15701"/>
                  <a:pt x="22547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8080" y="6438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76" y="17884"/>
                </a:moveTo>
                <a:lnTo>
                  <a:pt x="3076" y="1788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2468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Vice Versa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Percent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Equivalent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hen you hear someone say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three ten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or 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“five hundredths”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– which form pops in your head first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1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14800" y="5562720"/>
          <a:ext cx="5508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562720"/>
                    <a:ext cx="550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095880" y="5562720"/>
          <a:ext cx="735120" cy="103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276720" y="5105520"/>
          <a:ext cx="1371600" cy="11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105520"/>
                    <a:ext cx="13716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955960" y="2241720"/>
            <a:ext cx="660240" cy="258480"/>
          </a:xfrm>
          <a:custGeom>
            <a:avLst/>
            <a:gdLst/>
            <a:ahLst/>
            <a:rect l="l" t="t" r="r" b="b"/>
            <a:pathLst>
              <a:path w="1837" h="720">
                <a:moveTo>
                  <a:pt x="8483" y="6672"/>
                </a:moveTo>
                <a:cubicBezTo>
                  <a:pt x="8346" y="6582"/>
                  <a:pt x="8294" y="6642"/>
                  <a:pt x="8235" y="6796"/>
                </a:cubicBezTo>
                <a:cubicBezTo>
                  <a:pt x="8227" y="6829"/>
                  <a:pt x="8218" y="6863"/>
                  <a:pt x="8210" y="6896"/>
                </a:cubicBezTo>
                <a:cubicBezTo>
                  <a:pt x="8292" y="6918"/>
                  <a:pt x="8539" y="6954"/>
                  <a:pt x="8533" y="6796"/>
                </a:cubicBezTo>
                <a:cubicBezTo>
                  <a:pt x="8529" y="6693"/>
                  <a:pt x="8505" y="6688"/>
                  <a:pt x="8434" y="6648"/>
                </a:cubicBezTo>
              </a:path>
              <a:path w="1837" h="720">
                <a:moveTo>
                  <a:pt x="8781" y="6226"/>
                </a:moveTo>
                <a:cubicBezTo>
                  <a:pt x="8792" y="6409"/>
                  <a:pt x="8821" y="6589"/>
                  <a:pt x="8830" y="6772"/>
                </a:cubicBezTo>
              </a:path>
              <a:path w="1837" h="720">
                <a:moveTo>
                  <a:pt x="8657" y="6573"/>
                </a:moveTo>
                <a:cubicBezTo>
                  <a:pt x="8797" y="6549"/>
                  <a:pt x="8838" y="6541"/>
                  <a:pt x="8930" y="6548"/>
                </a:cubicBezTo>
              </a:path>
              <a:path w="1837" h="720">
                <a:moveTo>
                  <a:pt x="8855" y="6350"/>
                </a:moveTo>
                <a:cubicBezTo>
                  <a:pt x="8870" y="6516"/>
                  <a:pt x="8918" y="6659"/>
                  <a:pt x="8954" y="6821"/>
                </a:cubicBezTo>
                <a:cubicBezTo>
                  <a:pt x="8954" y="6740"/>
                  <a:pt x="8936" y="6554"/>
                  <a:pt x="9079" y="6573"/>
                </a:cubicBezTo>
                <a:cubicBezTo>
                  <a:pt x="9194" y="6588"/>
                  <a:pt x="9225" y="6713"/>
                  <a:pt x="9277" y="6796"/>
                </a:cubicBezTo>
              </a:path>
              <a:path w="1837" h="720">
                <a:moveTo>
                  <a:pt x="9426" y="6672"/>
                </a:moveTo>
                <a:cubicBezTo>
                  <a:pt x="9499" y="6619"/>
                  <a:pt x="9539" y="6617"/>
                  <a:pt x="9525" y="6548"/>
                </a:cubicBezTo>
                <a:cubicBezTo>
                  <a:pt x="9470" y="6543"/>
                  <a:pt x="9322" y="6578"/>
                  <a:pt x="9376" y="6697"/>
                </a:cubicBezTo>
                <a:cubicBezTo>
                  <a:pt x="9451" y="6796"/>
                  <a:pt x="9476" y="6829"/>
                  <a:pt x="9575" y="6796"/>
                </a:cubicBezTo>
              </a:path>
              <a:path w="1837" h="720">
                <a:moveTo>
                  <a:pt x="9723" y="6747"/>
                </a:moveTo>
                <a:cubicBezTo>
                  <a:pt x="9723" y="6790"/>
                  <a:pt x="9728" y="6623"/>
                  <a:pt x="9773" y="6573"/>
                </a:cubicBezTo>
                <a:cubicBezTo>
                  <a:pt x="9844" y="6495"/>
                  <a:pt x="9953" y="6524"/>
                  <a:pt x="10046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76760" y="2286000"/>
            <a:ext cx="554040" cy="241200"/>
          </a:xfrm>
          <a:custGeom>
            <a:avLst/>
            <a:gdLst/>
            <a:ahLst/>
            <a:rect l="l" t="t" r="r" b="b"/>
            <a:pathLst>
              <a:path w="1539" h="671">
                <a:moveTo>
                  <a:pt x="10492" y="6499"/>
                </a:moveTo>
                <a:cubicBezTo>
                  <a:pt x="10509" y="6555"/>
                  <a:pt x="10555" y="6863"/>
                  <a:pt x="10666" y="6747"/>
                </a:cubicBezTo>
                <a:cubicBezTo>
                  <a:pt x="10737" y="6628"/>
                  <a:pt x="10760" y="6593"/>
                  <a:pt x="10765" y="6499"/>
                </a:cubicBezTo>
                <a:cubicBezTo>
                  <a:pt x="10765" y="6628"/>
                  <a:pt x="10785" y="6774"/>
                  <a:pt x="10964" y="6722"/>
                </a:cubicBezTo>
                <a:cubicBezTo>
                  <a:pt x="11206" y="6653"/>
                  <a:pt x="11101" y="6444"/>
                  <a:pt x="10964" y="6375"/>
                </a:cubicBezTo>
              </a:path>
              <a:path w="1539" h="671">
                <a:moveTo>
                  <a:pt x="11435" y="6424"/>
                </a:moveTo>
                <a:cubicBezTo>
                  <a:pt x="11349" y="6417"/>
                  <a:pt x="11136" y="6465"/>
                  <a:pt x="11212" y="6623"/>
                </a:cubicBezTo>
                <a:cubicBezTo>
                  <a:pt x="11309" y="6826"/>
                  <a:pt x="11425" y="6502"/>
                  <a:pt x="11435" y="6449"/>
                </a:cubicBezTo>
                <a:cubicBezTo>
                  <a:pt x="11435" y="6537"/>
                  <a:pt x="11505" y="6724"/>
                  <a:pt x="11633" y="6573"/>
                </a:cubicBezTo>
                <a:cubicBezTo>
                  <a:pt x="11756" y="6428"/>
                  <a:pt x="11688" y="6731"/>
                  <a:pt x="11881" y="6648"/>
                </a:cubicBezTo>
                <a:cubicBezTo>
                  <a:pt x="12017" y="6589"/>
                  <a:pt x="11951" y="6451"/>
                  <a:pt x="11931" y="6350"/>
                </a:cubicBezTo>
                <a:cubicBezTo>
                  <a:pt x="11941" y="6565"/>
                  <a:pt x="11998" y="6758"/>
                  <a:pt x="12030" y="6970"/>
                </a:cubicBezTo>
                <a:cubicBezTo>
                  <a:pt x="12030" y="6987"/>
                  <a:pt x="12030" y="7003"/>
                  <a:pt x="12030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7080" y="2116080"/>
            <a:ext cx="884160" cy="295200"/>
          </a:xfrm>
          <a:custGeom>
            <a:avLst/>
            <a:gdLst/>
            <a:ahLst/>
            <a:rect l="l" t="t" r="r" b="b"/>
            <a:pathLst>
              <a:path w="2456" h="819">
                <a:moveTo>
                  <a:pt x="12948" y="6524"/>
                </a:moveTo>
                <a:cubicBezTo>
                  <a:pt x="12878" y="6418"/>
                  <a:pt x="12830" y="6328"/>
                  <a:pt x="12700" y="6424"/>
                </a:cubicBezTo>
                <a:cubicBezTo>
                  <a:pt x="12562" y="6526"/>
                  <a:pt x="12585" y="6578"/>
                  <a:pt x="12650" y="6697"/>
                </a:cubicBezTo>
                <a:cubicBezTo>
                  <a:pt x="12785" y="6659"/>
                  <a:pt x="12789" y="6523"/>
                  <a:pt x="12874" y="6573"/>
                </a:cubicBezTo>
                <a:cubicBezTo>
                  <a:pt x="13030" y="6666"/>
                  <a:pt x="13079" y="6467"/>
                  <a:pt x="13097" y="6524"/>
                </a:cubicBezTo>
                <a:cubicBezTo>
                  <a:pt x="13105" y="6557"/>
                  <a:pt x="13114" y="6590"/>
                  <a:pt x="13122" y="6623"/>
                </a:cubicBezTo>
                <a:cubicBezTo>
                  <a:pt x="13130" y="6631"/>
                  <a:pt x="13138" y="6640"/>
                  <a:pt x="13146" y="6648"/>
                </a:cubicBezTo>
                <a:cubicBezTo>
                  <a:pt x="13193" y="6478"/>
                  <a:pt x="13154" y="6434"/>
                  <a:pt x="13295" y="6325"/>
                </a:cubicBezTo>
              </a:path>
              <a:path w="2456" h="819">
                <a:moveTo>
                  <a:pt x="13543" y="6325"/>
                </a:moveTo>
                <a:cubicBezTo>
                  <a:pt x="13475" y="6452"/>
                  <a:pt x="13417" y="6511"/>
                  <a:pt x="13469" y="6648"/>
                </a:cubicBezTo>
                <a:cubicBezTo>
                  <a:pt x="13624" y="6619"/>
                  <a:pt x="13796" y="6542"/>
                  <a:pt x="13643" y="6375"/>
                </a:cubicBezTo>
                <a:cubicBezTo>
                  <a:pt x="13618" y="6358"/>
                  <a:pt x="13593" y="6342"/>
                  <a:pt x="13568" y="6325"/>
                </a:cubicBezTo>
              </a:path>
              <a:path w="2456" h="819">
                <a:moveTo>
                  <a:pt x="13816" y="6300"/>
                </a:moveTo>
                <a:cubicBezTo>
                  <a:pt x="13823" y="6388"/>
                  <a:pt x="13839" y="6628"/>
                  <a:pt x="13990" y="6623"/>
                </a:cubicBezTo>
                <a:cubicBezTo>
                  <a:pt x="14137" y="6618"/>
                  <a:pt x="14127" y="6470"/>
                  <a:pt x="14139" y="6375"/>
                </a:cubicBezTo>
                <a:cubicBezTo>
                  <a:pt x="14163" y="6466"/>
                  <a:pt x="14260" y="6808"/>
                  <a:pt x="14387" y="6573"/>
                </a:cubicBezTo>
                <a:cubicBezTo>
                  <a:pt x="14461" y="6435"/>
                  <a:pt x="14406" y="6497"/>
                  <a:pt x="14436" y="6623"/>
                </a:cubicBezTo>
                <a:cubicBezTo>
                  <a:pt x="14415" y="6490"/>
                  <a:pt x="14403" y="6456"/>
                  <a:pt x="14436" y="6375"/>
                </a:cubicBezTo>
                <a:cubicBezTo>
                  <a:pt x="14560" y="6313"/>
                  <a:pt x="14608" y="6411"/>
                  <a:pt x="14660" y="6524"/>
                </a:cubicBezTo>
                <a:cubicBezTo>
                  <a:pt x="14668" y="6549"/>
                  <a:pt x="14676" y="6573"/>
                  <a:pt x="14684" y="6598"/>
                </a:cubicBezTo>
              </a:path>
              <a:path w="2456" h="819">
                <a:moveTo>
                  <a:pt x="15007" y="6350"/>
                </a:moveTo>
                <a:cubicBezTo>
                  <a:pt x="14850" y="6277"/>
                  <a:pt x="14732" y="6294"/>
                  <a:pt x="14684" y="6499"/>
                </a:cubicBezTo>
                <a:cubicBezTo>
                  <a:pt x="14619" y="6777"/>
                  <a:pt x="14876" y="6681"/>
                  <a:pt x="15007" y="6623"/>
                </a:cubicBezTo>
              </a:path>
              <a:path w="2456" h="819">
                <a:moveTo>
                  <a:pt x="14908" y="5879"/>
                </a:moveTo>
                <a:cubicBezTo>
                  <a:pt x="14923" y="6123"/>
                  <a:pt x="14962" y="6340"/>
                  <a:pt x="15032" y="6573"/>
                </a:cubicBezTo>
                <a:cubicBezTo>
                  <a:pt x="15050" y="6631"/>
                  <a:pt x="15058" y="6637"/>
                  <a:pt x="15056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3116160"/>
            <a:ext cx="733680" cy="509760"/>
          </a:xfrm>
          <a:custGeom>
            <a:avLst/>
            <a:gdLst/>
            <a:ahLst/>
            <a:rect l="l" t="t" r="r" b="b"/>
            <a:pathLst>
              <a:path w="2035" h="1415">
                <a:moveTo>
                  <a:pt x="8285" y="9203"/>
                </a:moveTo>
                <a:cubicBezTo>
                  <a:pt x="8314" y="9199"/>
                  <a:pt x="8563" y="9197"/>
                  <a:pt x="8582" y="9178"/>
                </a:cubicBezTo>
                <a:cubicBezTo>
                  <a:pt x="8582" y="9161"/>
                  <a:pt x="8582" y="9145"/>
                  <a:pt x="8582" y="9128"/>
                </a:cubicBezTo>
                <a:cubicBezTo>
                  <a:pt x="8524" y="9056"/>
                  <a:pt x="8429" y="8922"/>
                  <a:pt x="8334" y="9054"/>
                </a:cubicBezTo>
                <a:cubicBezTo>
                  <a:pt x="8143" y="9320"/>
                  <a:pt x="8337" y="9398"/>
                  <a:pt x="8558" y="9451"/>
                </a:cubicBezTo>
              </a:path>
              <a:path w="2035" h="1415">
                <a:moveTo>
                  <a:pt x="8855" y="8979"/>
                </a:moveTo>
                <a:cubicBezTo>
                  <a:pt x="8785" y="9050"/>
                  <a:pt x="8649" y="9259"/>
                  <a:pt x="8830" y="9327"/>
                </a:cubicBezTo>
                <a:cubicBezTo>
                  <a:pt x="8925" y="9363"/>
                  <a:pt x="8998" y="9206"/>
                  <a:pt x="9029" y="9153"/>
                </a:cubicBezTo>
                <a:cubicBezTo>
                  <a:pt x="9098" y="9409"/>
                  <a:pt x="9092" y="9683"/>
                  <a:pt x="9128" y="9947"/>
                </a:cubicBezTo>
                <a:cubicBezTo>
                  <a:pt x="9136" y="9988"/>
                  <a:pt x="9145" y="10030"/>
                  <a:pt x="9153" y="10071"/>
                </a:cubicBezTo>
                <a:cubicBezTo>
                  <a:pt x="9313" y="9968"/>
                  <a:pt x="9340" y="9826"/>
                  <a:pt x="9227" y="9649"/>
                </a:cubicBezTo>
                <a:cubicBezTo>
                  <a:pt x="9194" y="9616"/>
                  <a:pt x="9161" y="9583"/>
                  <a:pt x="9128" y="9550"/>
                </a:cubicBezTo>
              </a:path>
              <a:path w="2035" h="1415">
                <a:moveTo>
                  <a:pt x="9302" y="9054"/>
                </a:moveTo>
                <a:cubicBezTo>
                  <a:pt x="9300" y="9098"/>
                  <a:pt x="9295" y="9466"/>
                  <a:pt x="9451" y="9302"/>
                </a:cubicBezTo>
                <a:cubicBezTo>
                  <a:pt x="9506" y="9191"/>
                  <a:pt x="9525" y="9145"/>
                  <a:pt x="9525" y="9054"/>
                </a:cubicBezTo>
                <a:cubicBezTo>
                  <a:pt x="9458" y="8919"/>
                  <a:pt x="9576" y="9237"/>
                  <a:pt x="9599" y="9277"/>
                </a:cubicBezTo>
              </a:path>
              <a:path w="2035" h="1415">
                <a:moveTo>
                  <a:pt x="9971" y="9079"/>
                </a:moveTo>
                <a:cubicBezTo>
                  <a:pt x="9963" y="9054"/>
                  <a:pt x="9955" y="9029"/>
                  <a:pt x="9947" y="9004"/>
                </a:cubicBezTo>
                <a:cubicBezTo>
                  <a:pt x="9821" y="9012"/>
                  <a:pt x="9591" y="9120"/>
                  <a:pt x="9748" y="9302"/>
                </a:cubicBezTo>
                <a:cubicBezTo>
                  <a:pt x="9860" y="9431"/>
                  <a:pt x="9946" y="9174"/>
                  <a:pt x="9971" y="9128"/>
                </a:cubicBezTo>
                <a:cubicBezTo>
                  <a:pt x="9963" y="9112"/>
                  <a:pt x="9955" y="9095"/>
                  <a:pt x="9947" y="9079"/>
                </a:cubicBezTo>
                <a:cubicBezTo>
                  <a:pt x="9993" y="9171"/>
                  <a:pt x="10082" y="9347"/>
                  <a:pt x="10220" y="9227"/>
                </a:cubicBezTo>
                <a:cubicBezTo>
                  <a:pt x="10245" y="9186"/>
                  <a:pt x="10269" y="9144"/>
                  <a:pt x="10294" y="9103"/>
                </a:cubicBezTo>
              </a:path>
              <a:path w="2035" h="1415">
                <a:moveTo>
                  <a:pt x="10170" y="8657"/>
                </a:moveTo>
                <a:cubicBezTo>
                  <a:pt x="10202" y="8839"/>
                  <a:pt x="10232" y="9004"/>
                  <a:pt x="10294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3880" y="3062160"/>
            <a:ext cx="304920" cy="206640"/>
          </a:xfrm>
          <a:custGeom>
            <a:avLst/>
            <a:gdLst/>
            <a:ahLst/>
            <a:rect l="l" t="t" r="r" b="b"/>
            <a:pathLst>
              <a:path w="844" h="572">
                <a:moveTo>
                  <a:pt x="11609" y="8508"/>
                </a:moveTo>
                <a:cubicBezTo>
                  <a:pt x="11609" y="8686"/>
                  <a:pt x="11676" y="8861"/>
                  <a:pt x="11733" y="9029"/>
                </a:cubicBezTo>
                <a:cubicBezTo>
                  <a:pt x="11741" y="9046"/>
                  <a:pt x="11749" y="9062"/>
                  <a:pt x="11757" y="9079"/>
                </a:cubicBezTo>
              </a:path>
              <a:path w="844" h="572">
                <a:moveTo>
                  <a:pt x="11485" y="8756"/>
                </a:moveTo>
                <a:cubicBezTo>
                  <a:pt x="11666" y="8731"/>
                  <a:pt x="11847" y="8718"/>
                  <a:pt x="12030" y="8706"/>
                </a:cubicBezTo>
                <a:cubicBezTo>
                  <a:pt x="12003" y="8821"/>
                  <a:pt x="11944" y="8970"/>
                  <a:pt x="12105" y="9004"/>
                </a:cubicBezTo>
                <a:cubicBezTo>
                  <a:pt x="12285" y="9042"/>
                  <a:pt x="12412" y="8903"/>
                  <a:pt x="12278" y="8756"/>
                </a:cubicBezTo>
                <a:cubicBezTo>
                  <a:pt x="12253" y="8739"/>
                  <a:pt x="12229" y="8723"/>
                  <a:pt x="12204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raction to a decim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so it can then be written as a percent)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First, check to see if the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denominator is a factor of 100</a:t>
            </a: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, if it is multiply the numerator and denominator so that the new fraction is “per hundred” </a:t>
            </a:r>
            <a:r>
              <a:rPr b="1" lang="en-US" sz="2500" spc="-1" strike="noStrike">
                <a:solidFill>
                  <a:srgbClr val="00cc66"/>
                </a:solidFill>
                <a:latin typeface="Arial"/>
              </a:rPr>
              <a:t>(what are all of the factors of 100?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If that doesn’t work, you’ll need to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divide the numerator by the denominator</a:t>
            </a:r>
            <a:r>
              <a:rPr b="1" lang="en-US" sz="2500" spc="-1" strike="noStrike">
                <a:solidFill>
                  <a:srgbClr val="3399ff"/>
                </a:solidFill>
                <a:latin typeface="Arial"/>
              </a:rPr>
              <a:t>, annexing zeros if need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" y="2411280"/>
            <a:ext cx="1366920" cy="830520"/>
          </a:xfrm>
          <a:custGeom>
            <a:avLst/>
            <a:gdLst/>
            <a:ahLst/>
            <a:rect l="l" t="t" r="r" b="b"/>
            <a:pathLst>
              <a:path w="3797" h="2308">
                <a:moveTo>
                  <a:pt x="843" y="7069"/>
                </a:moveTo>
                <a:cubicBezTo>
                  <a:pt x="885" y="6969"/>
                  <a:pt x="900" y="6903"/>
                  <a:pt x="1017" y="6896"/>
                </a:cubicBezTo>
                <a:cubicBezTo>
                  <a:pt x="1034" y="6896"/>
                  <a:pt x="1050" y="6896"/>
                  <a:pt x="1067" y="6896"/>
                </a:cubicBezTo>
                <a:cubicBezTo>
                  <a:pt x="1090" y="7050"/>
                  <a:pt x="1049" y="7167"/>
                  <a:pt x="943" y="7293"/>
                </a:cubicBezTo>
                <a:cubicBezTo>
                  <a:pt x="855" y="7380"/>
                  <a:pt x="836" y="7403"/>
                  <a:pt x="769" y="7441"/>
                </a:cubicBezTo>
                <a:cubicBezTo>
                  <a:pt x="933" y="7378"/>
                  <a:pt x="1064" y="7367"/>
                  <a:pt x="1240" y="7367"/>
                </a:cubicBezTo>
              </a:path>
              <a:path w="3797" h="2308">
                <a:moveTo>
                  <a:pt x="446" y="7813"/>
                </a:moveTo>
                <a:cubicBezTo>
                  <a:pt x="665" y="7763"/>
                  <a:pt x="892" y="7721"/>
                  <a:pt x="1116" y="7689"/>
                </a:cubicBezTo>
                <a:cubicBezTo>
                  <a:pt x="1124" y="7689"/>
                  <a:pt x="1133" y="7689"/>
                  <a:pt x="1141" y="7689"/>
                </a:cubicBezTo>
              </a:path>
              <a:path w="3797" h="2308">
                <a:moveTo>
                  <a:pt x="992" y="7962"/>
                </a:moveTo>
                <a:cubicBezTo>
                  <a:pt x="930" y="7980"/>
                  <a:pt x="786" y="7992"/>
                  <a:pt x="769" y="8062"/>
                </a:cubicBezTo>
                <a:cubicBezTo>
                  <a:pt x="769" y="8123"/>
                  <a:pt x="778" y="8139"/>
                  <a:pt x="744" y="8161"/>
                </a:cubicBezTo>
                <a:cubicBezTo>
                  <a:pt x="814" y="8173"/>
                  <a:pt x="985" y="8126"/>
                  <a:pt x="1042" y="8186"/>
                </a:cubicBezTo>
                <a:cubicBezTo>
                  <a:pt x="1050" y="8211"/>
                  <a:pt x="1059" y="8235"/>
                  <a:pt x="1067" y="8260"/>
                </a:cubicBezTo>
                <a:cubicBezTo>
                  <a:pt x="982" y="8395"/>
                  <a:pt x="897" y="8394"/>
                  <a:pt x="744" y="8409"/>
                </a:cubicBezTo>
              </a:path>
              <a:path w="3797" h="2308">
                <a:moveTo>
                  <a:pt x="1265" y="7640"/>
                </a:moveTo>
                <a:cubicBezTo>
                  <a:pt x="1355" y="7707"/>
                  <a:pt x="1382" y="7723"/>
                  <a:pt x="1414" y="7789"/>
                </a:cubicBezTo>
              </a:path>
              <a:path w="3797" h="2308">
                <a:moveTo>
                  <a:pt x="1439" y="7640"/>
                </a:moveTo>
                <a:cubicBezTo>
                  <a:pt x="1403" y="7739"/>
                  <a:pt x="1359" y="7838"/>
                  <a:pt x="1339" y="7938"/>
                </a:cubicBezTo>
              </a:path>
              <a:path w="3797" h="2308">
                <a:moveTo>
                  <a:pt x="1736" y="7789"/>
                </a:moveTo>
                <a:cubicBezTo>
                  <a:pt x="1831" y="7851"/>
                  <a:pt x="1708" y="7988"/>
                  <a:pt x="1736" y="8012"/>
                </a:cubicBezTo>
                <a:cubicBezTo>
                  <a:pt x="1819" y="8033"/>
                  <a:pt x="1834" y="8041"/>
                  <a:pt x="1885" y="8037"/>
                </a:cubicBezTo>
              </a:path>
              <a:path w="3797" h="2308">
                <a:moveTo>
                  <a:pt x="2034" y="7739"/>
                </a:moveTo>
                <a:cubicBezTo>
                  <a:pt x="1991" y="7854"/>
                  <a:pt x="1974" y="7871"/>
                  <a:pt x="2009" y="7987"/>
                </a:cubicBezTo>
                <a:cubicBezTo>
                  <a:pt x="2067" y="7982"/>
                  <a:pt x="2305" y="7939"/>
                  <a:pt x="2208" y="7813"/>
                </a:cubicBezTo>
                <a:cubicBezTo>
                  <a:pt x="2183" y="7805"/>
                  <a:pt x="2158" y="7797"/>
                  <a:pt x="2133" y="7789"/>
                </a:cubicBezTo>
              </a:path>
              <a:path w="3797" h="2308">
                <a:moveTo>
                  <a:pt x="1811" y="7565"/>
                </a:moveTo>
                <a:cubicBezTo>
                  <a:pt x="1895" y="7545"/>
                  <a:pt x="1973" y="7533"/>
                  <a:pt x="2059" y="7516"/>
                </a:cubicBezTo>
              </a:path>
              <a:path w="3797" h="2308">
                <a:moveTo>
                  <a:pt x="1761" y="7268"/>
                </a:moveTo>
                <a:cubicBezTo>
                  <a:pt x="1786" y="7251"/>
                  <a:pt x="1811" y="7235"/>
                  <a:pt x="1836" y="7218"/>
                </a:cubicBezTo>
                <a:cubicBezTo>
                  <a:pt x="1834" y="7362"/>
                  <a:pt x="1687" y="7328"/>
                  <a:pt x="1860" y="7392"/>
                </a:cubicBezTo>
              </a:path>
              <a:path w="3797" h="2308">
                <a:moveTo>
                  <a:pt x="2059" y="7119"/>
                </a:moveTo>
                <a:cubicBezTo>
                  <a:pt x="2032" y="7214"/>
                  <a:pt x="2017" y="7275"/>
                  <a:pt x="2034" y="7367"/>
                </a:cubicBezTo>
                <a:cubicBezTo>
                  <a:pt x="2087" y="7359"/>
                  <a:pt x="2335" y="7300"/>
                  <a:pt x="2257" y="7193"/>
                </a:cubicBezTo>
                <a:cubicBezTo>
                  <a:pt x="2190" y="7171"/>
                  <a:pt x="2172" y="7167"/>
                  <a:pt x="2133" y="7144"/>
                </a:cubicBezTo>
              </a:path>
              <a:path w="3797" h="2308">
                <a:moveTo>
                  <a:pt x="2505" y="7367"/>
                </a:moveTo>
                <a:cubicBezTo>
                  <a:pt x="2538" y="7367"/>
                  <a:pt x="2555" y="7367"/>
                  <a:pt x="2580" y="7367"/>
                </a:cubicBezTo>
              </a:path>
              <a:path w="3797" h="2308">
                <a:moveTo>
                  <a:pt x="2456" y="7590"/>
                </a:moveTo>
                <a:cubicBezTo>
                  <a:pt x="2472" y="7582"/>
                  <a:pt x="2489" y="7573"/>
                  <a:pt x="2505" y="7565"/>
                </a:cubicBezTo>
              </a:path>
              <a:path w="3797" h="2308">
                <a:moveTo>
                  <a:pt x="2927" y="7069"/>
                </a:moveTo>
                <a:cubicBezTo>
                  <a:pt x="3041" y="7115"/>
                  <a:pt x="3072" y="7134"/>
                  <a:pt x="3150" y="7094"/>
                </a:cubicBezTo>
              </a:path>
              <a:path w="3797" h="2308">
                <a:moveTo>
                  <a:pt x="3249" y="6796"/>
                </a:moveTo>
                <a:cubicBezTo>
                  <a:pt x="3226" y="6945"/>
                  <a:pt x="3202" y="7094"/>
                  <a:pt x="3175" y="7243"/>
                </a:cubicBezTo>
              </a:path>
              <a:path w="3797" h="2308">
                <a:moveTo>
                  <a:pt x="3547" y="6697"/>
                </a:moveTo>
                <a:cubicBezTo>
                  <a:pt x="3459" y="6855"/>
                  <a:pt x="3410" y="6957"/>
                  <a:pt x="3497" y="7119"/>
                </a:cubicBezTo>
                <a:cubicBezTo>
                  <a:pt x="3565" y="7108"/>
                  <a:pt x="3793" y="7020"/>
                  <a:pt x="3696" y="6896"/>
                </a:cubicBezTo>
                <a:cubicBezTo>
                  <a:pt x="3663" y="6879"/>
                  <a:pt x="3630" y="6863"/>
                  <a:pt x="3597" y="6846"/>
                </a:cubicBezTo>
              </a:path>
              <a:path w="3797" h="2308">
                <a:moveTo>
                  <a:pt x="2977" y="6945"/>
                </a:moveTo>
                <a:cubicBezTo>
                  <a:pt x="2969" y="6978"/>
                  <a:pt x="2960" y="7012"/>
                  <a:pt x="2952" y="7045"/>
                </a:cubicBezTo>
              </a:path>
              <a:path w="3797" h="2308">
                <a:moveTo>
                  <a:pt x="2902" y="7466"/>
                </a:moveTo>
                <a:cubicBezTo>
                  <a:pt x="3158" y="7433"/>
                  <a:pt x="3416" y="7399"/>
                  <a:pt x="3671" y="7367"/>
                </a:cubicBezTo>
              </a:path>
              <a:path w="3797" h="2308">
                <a:moveTo>
                  <a:pt x="3051" y="7863"/>
                </a:moveTo>
                <a:cubicBezTo>
                  <a:pt x="3044" y="7985"/>
                  <a:pt x="3030" y="8053"/>
                  <a:pt x="2977" y="8161"/>
                </a:cubicBezTo>
              </a:path>
              <a:path w="3797" h="2308">
                <a:moveTo>
                  <a:pt x="3324" y="7764"/>
                </a:moveTo>
                <a:cubicBezTo>
                  <a:pt x="3261" y="7905"/>
                  <a:pt x="3225" y="8004"/>
                  <a:pt x="3225" y="8161"/>
                </a:cubicBezTo>
                <a:cubicBezTo>
                  <a:pt x="3352" y="8137"/>
                  <a:pt x="3551" y="8053"/>
                  <a:pt x="3473" y="7863"/>
                </a:cubicBezTo>
                <a:cubicBezTo>
                  <a:pt x="3448" y="7838"/>
                  <a:pt x="3423" y="7814"/>
                  <a:pt x="3398" y="7789"/>
                </a:cubicBezTo>
              </a:path>
              <a:path w="3797" h="2308">
                <a:moveTo>
                  <a:pt x="3696" y="7640"/>
                </a:moveTo>
                <a:cubicBezTo>
                  <a:pt x="3582" y="7768"/>
                  <a:pt x="3592" y="7868"/>
                  <a:pt x="3621" y="8037"/>
                </a:cubicBezTo>
                <a:cubicBezTo>
                  <a:pt x="3746" y="8016"/>
                  <a:pt x="3883" y="7931"/>
                  <a:pt x="3820" y="7764"/>
                </a:cubicBezTo>
                <a:cubicBezTo>
                  <a:pt x="3795" y="7739"/>
                  <a:pt x="3771" y="7714"/>
                  <a:pt x="3746" y="7689"/>
                </a:cubicBezTo>
              </a:path>
              <a:path w="3797" h="2308">
                <a:moveTo>
                  <a:pt x="4068" y="7417"/>
                </a:moveTo>
                <a:cubicBezTo>
                  <a:pt x="4109" y="7400"/>
                  <a:pt x="4151" y="7384"/>
                  <a:pt x="4192" y="7367"/>
                </a:cubicBezTo>
              </a:path>
              <a:path w="3797" h="2308">
                <a:moveTo>
                  <a:pt x="4068" y="7615"/>
                </a:moveTo>
                <a:cubicBezTo>
                  <a:pt x="4141" y="7578"/>
                  <a:pt x="4182" y="7561"/>
                  <a:pt x="4242" y="7541"/>
                </a:cubicBezTo>
              </a:path>
              <a:path w="3797" h="2308">
                <a:moveTo>
                  <a:pt x="3101" y="8930"/>
                </a:moveTo>
                <a:lnTo>
                  <a:pt x="3101" y="8930"/>
                </a:lnTo>
              </a:path>
              <a:path w="3797" h="2308">
                <a:moveTo>
                  <a:pt x="3373" y="8558"/>
                </a:moveTo>
                <a:cubicBezTo>
                  <a:pt x="3418" y="8632"/>
                  <a:pt x="3427" y="8696"/>
                  <a:pt x="3547" y="8682"/>
                </a:cubicBezTo>
                <a:cubicBezTo>
                  <a:pt x="3572" y="8674"/>
                  <a:pt x="3596" y="8665"/>
                  <a:pt x="3621" y="8657"/>
                </a:cubicBezTo>
              </a:path>
              <a:path w="3797" h="2308">
                <a:moveTo>
                  <a:pt x="3621" y="8434"/>
                </a:moveTo>
                <a:cubicBezTo>
                  <a:pt x="3596" y="8600"/>
                  <a:pt x="3597" y="8761"/>
                  <a:pt x="3597" y="8930"/>
                </a:cubicBezTo>
              </a:path>
              <a:path w="3797" h="2308">
                <a:moveTo>
                  <a:pt x="3919" y="8434"/>
                </a:moveTo>
                <a:cubicBezTo>
                  <a:pt x="3844" y="8576"/>
                  <a:pt x="3793" y="8677"/>
                  <a:pt x="3845" y="8830"/>
                </a:cubicBezTo>
                <a:cubicBezTo>
                  <a:pt x="4036" y="8747"/>
                  <a:pt x="4097" y="8683"/>
                  <a:pt x="4043" y="8483"/>
                </a:cubicBezTo>
              </a:path>
              <a:path w="3797" h="2308">
                <a:moveTo>
                  <a:pt x="3125" y="8954"/>
                </a:moveTo>
                <a:cubicBezTo>
                  <a:pt x="3079" y="9051"/>
                  <a:pt x="3167" y="8910"/>
                  <a:pt x="3051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89040" y="4446720"/>
            <a:ext cx="108000" cy="241200"/>
          </a:xfrm>
          <a:custGeom>
            <a:avLst/>
            <a:gdLst/>
            <a:ahLst/>
            <a:rect l="l" t="t" r="r" b="b"/>
            <a:pathLst>
              <a:path w="299" h="670">
                <a:moveTo>
                  <a:pt x="4415" y="12626"/>
                </a:moveTo>
                <a:cubicBezTo>
                  <a:pt x="4499" y="12605"/>
                  <a:pt x="4657" y="12580"/>
                  <a:pt x="4564" y="12725"/>
                </a:cubicBezTo>
                <a:cubicBezTo>
                  <a:pt x="4518" y="12771"/>
                  <a:pt x="4505" y="12785"/>
                  <a:pt x="4465" y="12799"/>
                </a:cubicBezTo>
                <a:cubicBezTo>
                  <a:pt x="4572" y="12784"/>
                  <a:pt x="4777" y="12771"/>
                  <a:pt x="4688" y="12948"/>
                </a:cubicBezTo>
                <a:cubicBezTo>
                  <a:pt x="4632" y="13059"/>
                  <a:pt x="4502" y="13007"/>
                  <a:pt x="4415" y="12998"/>
                </a:cubicBezTo>
              </a:path>
              <a:path w="299" h="670">
                <a:moveTo>
                  <a:pt x="4490" y="12378"/>
                </a:moveTo>
                <a:cubicBezTo>
                  <a:pt x="4564" y="12359"/>
                  <a:pt x="4571" y="12351"/>
                  <a:pt x="4614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05000" y="4303800"/>
            <a:ext cx="563760" cy="403200"/>
          </a:xfrm>
          <a:custGeom>
            <a:avLst/>
            <a:gdLst/>
            <a:ahLst/>
            <a:rect l="l" t="t" r="r" b="b"/>
            <a:pathLst>
              <a:path w="1563" h="1117">
                <a:moveTo>
                  <a:pt x="6672" y="11956"/>
                </a:moveTo>
                <a:cubicBezTo>
                  <a:pt x="6465" y="11991"/>
                  <a:pt x="6447" y="11986"/>
                  <a:pt x="6350" y="12179"/>
                </a:cubicBezTo>
                <a:cubicBezTo>
                  <a:pt x="6342" y="12196"/>
                  <a:pt x="6333" y="12212"/>
                  <a:pt x="6325" y="12229"/>
                </a:cubicBezTo>
                <a:cubicBezTo>
                  <a:pt x="6450" y="12213"/>
                  <a:pt x="6511" y="12133"/>
                  <a:pt x="6623" y="12254"/>
                </a:cubicBezTo>
                <a:cubicBezTo>
                  <a:pt x="6768" y="12410"/>
                  <a:pt x="6581" y="12551"/>
                  <a:pt x="6424" y="12526"/>
                </a:cubicBezTo>
                <a:cubicBezTo>
                  <a:pt x="6383" y="12510"/>
                  <a:pt x="6341" y="12493"/>
                  <a:pt x="6300" y="12477"/>
                </a:cubicBezTo>
              </a:path>
              <a:path w="1563" h="1117">
                <a:moveTo>
                  <a:pt x="6127" y="12626"/>
                </a:moveTo>
                <a:cubicBezTo>
                  <a:pt x="6337" y="12638"/>
                  <a:pt x="6536" y="12633"/>
                  <a:pt x="6747" y="12626"/>
                </a:cubicBezTo>
              </a:path>
              <a:path w="1563" h="1117">
                <a:moveTo>
                  <a:pt x="6524" y="12725"/>
                </a:moveTo>
                <a:cubicBezTo>
                  <a:pt x="6436" y="12837"/>
                  <a:pt x="6417" y="12880"/>
                  <a:pt x="6400" y="13022"/>
                </a:cubicBezTo>
                <a:cubicBezTo>
                  <a:pt x="6528" y="13081"/>
                  <a:pt x="6680" y="13040"/>
                  <a:pt x="6747" y="12874"/>
                </a:cubicBezTo>
                <a:cubicBezTo>
                  <a:pt x="6748" y="12872"/>
                  <a:pt x="6573" y="12870"/>
                  <a:pt x="6573" y="12998"/>
                </a:cubicBezTo>
              </a:path>
              <a:path w="1563" h="1117">
                <a:moveTo>
                  <a:pt x="7169" y="12427"/>
                </a:moveTo>
                <a:cubicBezTo>
                  <a:pt x="7259" y="12404"/>
                  <a:pt x="7283" y="12396"/>
                  <a:pt x="7342" y="12402"/>
                </a:cubicBezTo>
              </a:path>
              <a:path w="1563" h="1117">
                <a:moveTo>
                  <a:pt x="7094" y="12675"/>
                </a:moveTo>
                <a:cubicBezTo>
                  <a:pt x="7144" y="12667"/>
                  <a:pt x="7193" y="12658"/>
                  <a:pt x="7243" y="12650"/>
                </a:cubicBezTo>
              </a:path>
              <a:path w="1563" h="1117">
                <a:moveTo>
                  <a:pt x="7689" y="12750"/>
                </a:moveTo>
                <a:lnTo>
                  <a:pt x="7689" y="1275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4276800"/>
            <a:ext cx="3589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8458" y="12204"/>
                </a:moveTo>
                <a:cubicBezTo>
                  <a:pt x="8265" y="12176"/>
                  <a:pt x="8198" y="12214"/>
                  <a:pt x="8111" y="12378"/>
                </a:cubicBezTo>
                <a:cubicBezTo>
                  <a:pt x="8232" y="12465"/>
                  <a:pt x="8643" y="12609"/>
                  <a:pt x="8409" y="12750"/>
                </a:cubicBezTo>
                <a:cubicBezTo>
                  <a:pt x="8368" y="12758"/>
                  <a:pt x="8326" y="12766"/>
                  <a:pt x="8285" y="12774"/>
                </a:cubicBezTo>
                <a:cubicBezTo>
                  <a:pt x="8284" y="12573"/>
                  <a:pt x="8430" y="12487"/>
                  <a:pt x="8508" y="12303"/>
                </a:cubicBezTo>
                <a:cubicBezTo>
                  <a:pt x="8508" y="12287"/>
                  <a:pt x="8508" y="12270"/>
                  <a:pt x="8508" y="12254"/>
                </a:cubicBezTo>
              </a:path>
              <a:path w="993" h="894">
                <a:moveTo>
                  <a:pt x="8781" y="12179"/>
                </a:moveTo>
                <a:cubicBezTo>
                  <a:pt x="8832" y="12127"/>
                  <a:pt x="8851" y="12109"/>
                  <a:pt x="8905" y="12105"/>
                </a:cubicBezTo>
                <a:cubicBezTo>
                  <a:pt x="9000" y="12264"/>
                  <a:pt x="8924" y="12307"/>
                  <a:pt x="8781" y="12402"/>
                </a:cubicBezTo>
                <a:cubicBezTo>
                  <a:pt x="8884" y="12402"/>
                  <a:pt x="9231" y="12456"/>
                  <a:pt x="9103" y="12675"/>
                </a:cubicBezTo>
                <a:cubicBezTo>
                  <a:pt x="9016" y="12823"/>
                  <a:pt x="8822" y="12714"/>
                  <a:pt x="8731" y="12675"/>
                </a:cubicBezTo>
              </a:path>
              <a:path w="993" h="894">
                <a:moveTo>
                  <a:pt x="8806" y="11981"/>
                </a:moveTo>
                <a:cubicBezTo>
                  <a:pt x="8805" y="11888"/>
                  <a:pt x="8982" y="11933"/>
                  <a:pt x="9079" y="11906"/>
                </a:cubicBezTo>
                <a:cubicBezTo>
                  <a:pt x="9087" y="11898"/>
                  <a:pt x="9095" y="11889"/>
                  <a:pt x="9103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0280" y="4375080"/>
            <a:ext cx="455760" cy="169920"/>
          </a:xfrm>
          <a:custGeom>
            <a:avLst/>
            <a:gdLst/>
            <a:ahLst/>
            <a:rect l="l" t="t" r="r" b="b"/>
            <a:pathLst>
              <a:path w="1266" h="473">
                <a:moveTo>
                  <a:pt x="9897" y="12254"/>
                </a:moveTo>
                <a:cubicBezTo>
                  <a:pt x="9771" y="12380"/>
                  <a:pt x="9748" y="12402"/>
                  <a:pt x="9748" y="12576"/>
                </a:cubicBezTo>
                <a:cubicBezTo>
                  <a:pt x="9923" y="12585"/>
                  <a:pt x="10129" y="12566"/>
                  <a:pt x="9996" y="12328"/>
                </a:cubicBezTo>
                <a:cubicBezTo>
                  <a:pt x="9971" y="12303"/>
                  <a:pt x="9947" y="12279"/>
                  <a:pt x="9922" y="12254"/>
                </a:cubicBezTo>
              </a:path>
              <a:path w="1266" h="473">
                <a:moveTo>
                  <a:pt x="10269" y="12353"/>
                </a:moveTo>
                <a:cubicBezTo>
                  <a:pt x="10286" y="12386"/>
                  <a:pt x="10302" y="12419"/>
                  <a:pt x="10319" y="12452"/>
                </a:cubicBezTo>
                <a:cubicBezTo>
                  <a:pt x="10338" y="12244"/>
                  <a:pt x="10383" y="12222"/>
                  <a:pt x="10567" y="12154"/>
                </a:cubicBezTo>
              </a:path>
              <a:path w="1266" h="473">
                <a:moveTo>
                  <a:pt x="10988" y="12551"/>
                </a:moveTo>
                <a:cubicBezTo>
                  <a:pt x="10959" y="12581"/>
                  <a:pt x="10948" y="12596"/>
                  <a:pt x="10939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06880" y="4214880"/>
            <a:ext cx="484200" cy="330120"/>
          </a:xfrm>
          <a:custGeom>
            <a:avLst/>
            <a:gdLst/>
            <a:ahLst/>
            <a:rect l="l" t="t" r="r" b="b"/>
            <a:pathLst>
              <a:path w="1341" h="919">
                <a:moveTo>
                  <a:pt x="11733" y="11981"/>
                </a:moveTo>
                <a:cubicBezTo>
                  <a:pt x="11600" y="11951"/>
                  <a:pt x="11561" y="11995"/>
                  <a:pt x="11435" y="12055"/>
                </a:cubicBezTo>
                <a:cubicBezTo>
                  <a:pt x="11435" y="12196"/>
                  <a:pt x="11619" y="12481"/>
                  <a:pt x="11559" y="12601"/>
                </a:cubicBezTo>
                <a:cubicBezTo>
                  <a:pt x="11534" y="12609"/>
                  <a:pt x="11510" y="12618"/>
                  <a:pt x="11485" y="12626"/>
                </a:cubicBezTo>
                <a:cubicBezTo>
                  <a:pt x="11396" y="12423"/>
                  <a:pt x="11498" y="12316"/>
                  <a:pt x="11609" y="12105"/>
                </a:cubicBezTo>
              </a:path>
              <a:path w="1341" h="919">
                <a:moveTo>
                  <a:pt x="11807" y="12030"/>
                </a:moveTo>
                <a:cubicBezTo>
                  <a:pt x="11844" y="12025"/>
                  <a:pt x="12093" y="11945"/>
                  <a:pt x="12080" y="12055"/>
                </a:cubicBezTo>
                <a:cubicBezTo>
                  <a:pt x="12023" y="12168"/>
                  <a:pt x="11994" y="12212"/>
                  <a:pt x="11906" y="12254"/>
                </a:cubicBezTo>
                <a:cubicBezTo>
                  <a:pt x="11789" y="12276"/>
                  <a:pt x="12041" y="12179"/>
                  <a:pt x="12129" y="12378"/>
                </a:cubicBezTo>
                <a:cubicBezTo>
                  <a:pt x="12129" y="12411"/>
                  <a:pt x="12129" y="12444"/>
                  <a:pt x="12129" y="12477"/>
                </a:cubicBezTo>
                <a:cubicBezTo>
                  <a:pt x="11923" y="12567"/>
                  <a:pt x="11809" y="12590"/>
                  <a:pt x="11683" y="12427"/>
                </a:cubicBezTo>
              </a:path>
              <a:path w="1341" h="919">
                <a:moveTo>
                  <a:pt x="12402" y="12005"/>
                </a:moveTo>
                <a:cubicBezTo>
                  <a:pt x="12550" y="11960"/>
                  <a:pt x="12732" y="11998"/>
                  <a:pt x="12502" y="12154"/>
                </a:cubicBezTo>
                <a:cubicBezTo>
                  <a:pt x="12461" y="12171"/>
                  <a:pt x="12419" y="12187"/>
                  <a:pt x="12378" y="12204"/>
                </a:cubicBezTo>
                <a:cubicBezTo>
                  <a:pt x="12502" y="12204"/>
                  <a:pt x="12785" y="12206"/>
                  <a:pt x="12725" y="12427"/>
                </a:cubicBezTo>
                <a:cubicBezTo>
                  <a:pt x="12652" y="12697"/>
                  <a:pt x="12362" y="12590"/>
                  <a:pt x="12229" y="12502"/>
                </a:cubicBezTo>
              </a:path>
              <a:path w="1341" h="919">
                <a:moveTo>
                  <a:pt x="12328" y="11807"/>
                </a:moveTo>
                <a:cubicBezTo>
                  <a:pt x="12463" y="11704"/>
                  <a:pt x="12568" y="11708"/>
                  <a:pt x="12750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200" y="4840200"/>
            <a:ext cx="13500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943" y="13444"/>
                </a:moveTo>
                <a:cubicBezTo>
                  <a:pt x="863" y="13453"/>
                  <a:pt x="733" y="13463"/>
                  <a:pt x="670" y="13519"/>
                </a:cubicBezTo>
                <a:cubicBezTo>
                  <a:pt x="642" y="13544"/>
                  <a:pt x="703" y="13722"/>
                  <a:pt x="719" y="13767"/>
                </a:cubicBezTo>
                <a:cubicBezTo>
                  <a:pt x="827" y="13690"/>
                  <a:pt x="899" y="13644"/>
                  <a:pt x="992" y="13767"/>
                </a:cubicBezTo>
                <a:cubicBezTo>
                  <a:pt x="1072" y="13872"/>
                  <a:pt x="1067" y="14045"/>
                  <a:pt x="918" y="14089"/>
                </a:cubicBezTo>
                <a:cubicBezTo>
                  <a:pt x="819" y="14089"/>
                  <a:pt x="785" y="14089"/>
                  <a:pt x="719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6920" y="5116680"/>
            <a:ext cx="241200" cy="27000"/>
          </a:xfrm>
          <a:custGeom>
            <a:avLst/>
            <a:gdLst/>
            <a:ahLst/>
            <a:rect l="l" t="t" r="r" b="b"/>
            <a:pathLst>
              <a:path w="670" h="76">
                <a:moveTo>
                  <a:pt x="546" y="14288"/>
                </a:moveTo>
                <a:cubicBezTo>
                  <a:pt x="768" y="14247"/>
                  <a:pt x="990" y="14223"/>
                  <a:pt x="121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840" y="5224320"/>
            <a:ext cx="115920" cy="17784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893" y="14511"/>
                </a:moveTo>
                <a:cubicBezTo>
                  <a:pt x="858" y="14651"/>
                  <a:pt x="837" y="14804"/>
                  <a:pt x="918" y="14932"/>
                </a:cubicBezTo>
                <a:cubicBezTo>
                  <a:pt x="1040" y="15124"/>
                  <a:pt x="1167" y="14855"/>
                  <a:pt x="1191" y="14759"/>
                </a:cubicBezTo>
                <a:cubicBezTo>
                  <a:pt x="1191" y="14734"/>
                  <a:pt x="1191" y="14709"/>
                  <a:pt x="1191" y="14684"/>
                </a:cubicBezTo>
                <a:cubicBezTo>
                  <a:pt x="1065" y="14700"/>
                  <a:pt x="1017" y="14799"/>
                  <a:pt x="1017" y="14932"/>
                </a:cubicBezTo>
                <a:cubicBezTo>
                  <a:pt x="1025" y="14957"/>
                  <a:pt x="1034" y="14982"/>
                  <a:pt x="1042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7720" y="4894200"/>
            <a:ext cx="117360" cy="16992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3101" y="13593"/>
                </a:moveTo>
                <a:cubicBezTo>
                  <a:pt x="3035" y="13600"/>
                  <a:pt x="2891" y="13607"/>
                  <a:pt x="2853" y="13667"/>
                </a:cubicBezTo>
                <a:cubicBezTo>
                  <a:pt x="2829" y="13740"/>
                  <a:pt x="2820" y="13764"/>
                  <a:pt x="2828" y="13816"/>
                </a:cubicBezTo>
                <a:cubicBezTo>
                  <a:pt x="2960" y="13778"/>
                  <a:pt x="3021" y="13725"/>
                  <a:pt x="3125" y="13841"/>
                </a:cubicBezTo>
                <a:cubicBezTo>
                  <a:pt x="3227" y="13955"/>
                  <a:pt x="3038" y="14046"/>
                  <a:pt x="2952" y="14064"/>
                </a:cubicBezTo>
                <a:cubicBezTo>
                  <a:pt x="2911" y="14064"/>
                  <a:pt x="2869" y="14064"/>
                  <a:pt x="282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6880" y="4803840"/>
            <a:ext cx="633240" cy="34920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2555" y="14312"/>
                </a:moveTo>
                <a:cubicBezTo>
                  <a:pt x="2555" y="14109"/>
                  <a:pt x="2546" y="13936"/>
                  <a:pt x="2480" y="13742"/>
                </a:cubicBezTo>
                <a:cubicBezTo>
                  <a:pt x="2443" y="13648"/>
                  <a:pt x="2450" y="13630"/>
                  <a:pt x="2406" y="13593"/>
                </a:cubicBezTo>
                <a:cubicBezTo>
                  <a:pt x="2738" y="13504"/>
                  <a:pt x="3055" y="13447"/>
                  <a:pt x="3398" y="13419"/>
                </a:cubicBezTo>
                <a:cubicBezTo>
                  <a:pt x="3607" y="13402"/>
                  <a:pt x="3908" y="13421"/>
                  <a:pt x="4118" y="13370"/>
                </a:cubicBezTo>
                <a:cubicBezTo>
                  <a:pt x="4140" y="13347"/>
                  <a:pt x="4145" y="13339"/>
                  <a:pt x="4167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6960" y="4929120"/>
            <a:ext cx="152280" cy="223920"/>
          </a:xfrm>
          <a:custGeom>
            <a:avLst/>
            <a:gdLst/>
            <a:ahLst/>
            <a:rect l="l" t="t" r="r" b="b"/>
            <a:pathLst>
              <a:path w="422" h="621">
                <a:moveTo>
                  <a:pt x="1960" y="13692"/>
                </a:moveTo>
                <a:cubicBezTo>
                  <a:pt x="1932" y="13849"/>
                  <a:pt x="1913" y="14028"/>
                  <a:pt x="1935" y="14188"/>
                </a:cubicBezTo>
                <a:cubicBezTo>
                  <a:pt x="1954" y="14327"/>
                  <a:pt x="2107" y="14306"/>
                  <a:pt x="2208" y="14263"/>
                </a:cubicBezTo>
                <a:cubicBezTo>
                  <a:pt x="2303" y="14223"/>
                  <a:pt x="2337" y="14103"/>
                  <a:pt x="2356" y="14015"/>
                </a:cubicBezTo>
                <a:cubicBezTo>
                  <a:pt x="2259" y="13982"/>
                  <a:pt x="2156" y="13968"/>
                  <a:pt x="2108" y="14089"/>
                </a:cubicBezTo>
                <a:cubicBezTo>
                  <a:pt x="2060" y="14211"/>
                  <a:pt x="2088" y="14229"/>
                  <a:pt x="2158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04920" y="5018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349" y="13940"/>
                </a:moveTo>
                <a:lnTo>
                  <a:pt x="3349" y="1394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0000" y="476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249" y="13246"/>
                </a:moveTo>
                <a:lnTo>
                  <a:pt x="3249" y="132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6200" y="4902120"/>
            <a:ext cx="108000" cy="1620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3646" y="13618"/>
                </a:moveTo>
                <a:cubicBezTo>
                  <a:pt x="3588" y="13647"/>
                  <a:pt x="3564" y="13745"/>
                  <a:pt x="3547" y="13816"/>
                </a:cubicBezTo>
                <a:cubicBezTo>
                  <a:pt x="3535" y="13865"/>
                  <a:pt x="3569" y="13992"/>
                  <a:pt x="3597" y="14039"/>
                </a:cubicBezTo>
                <a:cubicBezTo>
                  <a:pt x="3650" y="14127"/>
                  <a:pt x="3741" y="14033"/>
                  <a:pt x="3770" y="13990"/>
                </a:cubicBezTo>
                <a:cubicBezTo>
                  <a:pt x="3810" y="13931"/>
                  <a:pt x="3841" y="13860"/>
                  <a:pt x="3845" y="13791"/>
                </a:cubicBezTo>
                <a:cubicBezTo>
                  <a:pt x="3850" y="13699"/>
                  <a:pt x="3767" y="13661"/>
                  <a:pt x="3696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52360" y="4776840"/>
            <a:ext cx="17640" cy="19080"/>
          </a:xfrm>
          <a:custGeom>
            <a:avLst/>
            <a:gdLst/>
            <a:ahLst/>
            <a:rect l="l" t="t" r="r" b="b"/>
            <a:pathLst>
              <a:path w="50" h="50">
                <a:moveTo>
                  <a:pt x="3200" y="13295"/>
                </a:moveTo>
                <a:cubicBezTo>
                  <a:pt x="3247" y="13319"/>
                  <a:pt x="3264" y="13329"/>
                  <a:pt x="3249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84200" y="4840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845" y="13444"/>
                </a:moveTo>
                <a:lnTo>
                  <a:pt x="3845" y="134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41280" y="4545000"/>
            <a:ext cx="11592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3696" y="12650"/>
                </a:moveTo>
                <a:cubicBezTo>
                  <a:pt x="3612" y="12615"/>
                  <a:pt x="3567" y="12633"/>
                  <a:pt x="3473" y="12650"/>
                </a:cubicBezTo>
                <a:cubicBezTo>
                  <a:pt x="3415" y="12804"/>
                  <a:pt x="3556" y="12786"/>
                  <a:pt x="3671" y="12874"/>
                </a:cubicBezTo>
                <a:cubicBezTo>
                  <a:pt x="3771" y="12950"/>
                  <a:pt x="3820" y="13105"/>
                  <a:pt x="3671" y="13171"/>
                </a:cubicBezTo>
                <a:cubicBezTo>
                  <a:pt x="3646" y="13171"/>
                  <a:pt x="3622" y="13171"/>
                  <a:pt x="3597" y="13171"/>
                </a:cubicBezTo>
                <a:cubicBezTo>
                  <a:pt x="3468" y="13057"/>
                  <a:pt x="3528" y="12973"/>
                  <a:pt x="3621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12920" y="4599000"/>
            <a:ext cx="36360" cy="44280"/>
          </a:xfrm>
          <a:custGeom>
            <a:avLst/>
            <a:gdLst/>
            <a:ahLst/>
            <a:rect l="l" t="t" r="r" b="b"/>
            <a:pathLst>
              <a:path w="101" h="125">
                <a:moveTo>
                  <a:pt x="3646" y="12898"/>
                </a:moveTo>
                <a:cubicBezTo>
                  <a:pt x="3709" y="12836"/>
                  <a:pt x="3727" y="12826"/>
                  <a:pt x="3746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0200" y="4581360"/>
            <a:ext cx="19080" cy="349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3746" y="12824"/>
                </a:moveTo>
                <a:cubicBezTo>
                  <a:pt x="3746" y="12746"/>
                  <a:pt x="3760" y="12767"/>
                  <a:pt x="3696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2000" y="5099040"/>
            <a:ext cx="100080" cy="9828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2977" y="14163"/>
                </a:moveTo>
                <a:cubicBezTo>
                  <a:pt x="2977" y="14261"/>
                  <a:pt x="2977" y="14345"/>
                  <a:pt x="2952" y="14436"/>
                </a:cubicBezTo>
                <a:cubicBezTo>
                  <a:pt x="3047" y="14436"/>
                  <a:pt x="3132" y="14410"/>
                  <a:pt x="3225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3640" y="5081760"/>
            <a:ext cx="18720" cy="160200"/>
          </a:xfrm>
          <a:custGeom>
            <a:avLst/>
            <a:gdLst/>
            <a:ahLst/>
            <a:rect l="l" t="t" r="r" b="b"/>
            <a:pathLst>
              <a:path w="51" h="447">
                <a:moveTo>
                  <a:pt x="3200" y="14114"/>
                </a:moveTo>
                <a:cubicBezTo>
                  <a:pt x="3176" y="14262"/>
                  <a:pt x="3166" y="14409"/>
                  <a:pt x="3150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5072040"/>
            <a:ext cx="81000" cy="169920"/>
          </a:xfrm>
          <a:custGeom>
            <a:avLst/>
            <a:gdLst/>
            <a:ahLst/>
            <a:rect l="l" t="t" r="r" b="b"/>
            <a:pathLst>
              <a:path w="225" h="472">
                <a:moveTo>
                  <a:pt x="3646" y="14089"/>
                </a:moveTo>
                <a:cubicBezTo>
                  <a:pt x="3566" y="14155"/>
                  <a:pt x="3448" y="14212"/>
                  <a:pt x="3547" y="14312"/>
                </a:cubicBezTo>
                <a:cubicBezTo>
                  <a:pt x="3664" y="14429"/>
                  <a:pt x="3696" y="14366"/>
                  <a:pt x="3696" y="14511"/>
                </a:cubicBezTo>
                <a:cubicBezTo>
                  <a:pt x="3671" y="14527"/>
                  <a:pt x="3646" y="14544"/>
                  <a:pt x="3621" y="14560"/>
                </a:cubicBezTo>
                <a:cubicBezTo>
                  <a:pt x="3510" y="14449"/>
                  <a:pt x="3637" y="14352"/>
                  <a:pt x="3671" y="14213"/>
                </a:cubicBezTo>
                <a:cubicBezTo>
                  <a:pt x="3671" y="14188"/>
                  <a:pt x="3671" y="14164"/>
                  <a:pt x="3671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4080" y="5249880"/>
            <a:ext cx="303120" cy="6336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2927" y="14759"/>
                </a:moveTo>
                <a:cubicBezTo>
                  <a:pt x="3209" y="14686"/>
                  <a:pt x="3480" y="14608"/>
                  <a:pt x="3770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1000" y="5340240"/>
            <a:ext cx="123840" cy="13356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3597" y="14858"/>
                </a:moveTo>
                <a:cubicBezTo>
                  <a:pt x="3654" y="14839"/>
                  <a:pt x="3661" y="14830"/>
                  <a:pt x="3696" y="14833"/>
                </a:cubicBezTo>
                <a:cubicBezTo>
                  <a:pt x="3711" y="15031"/>
                  <a:pt x="3597" y="15041"/>
                  <a:pt x="3473" y="15180"/>
                </a:cubicBezTo>
                <a:cubicBezTo>
                  <a:pt x="3435" y="15223"/>
                  <a:pt x="3786" y="15164"/>
                  <a:pt x="3820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93920" y="4964040"/>
            <a:ext cx="125280" cy="1270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4043" y="13841"/>
                </a:moveTo>
                <a:cubicBezTo>
                  <a:pt x="3917" y="13740"/>
                  <a:pt x="3857" y="13919"/>
                  <a:pt x="3870" y="14039"/>
                </a:cubicBezTo>
                <a:cubicBezTo>
                  <a:pt x="3892" y="14250"/>
                  <a:pt x="4186" y="14092"/>
                  <a:pt x="4217" y="13965"/>
                </a:cubicBezTo>
                <a:cubicBezTo>
                  <a:pt x="4195" y="13876"/>
                  <a:pt x="4194" y="13851"/>
                  <a:pt x="4142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55840" y="5106960"/>
            <a:ext cx="936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4068" y="14188"/>
                </a:moveTo>
                <a:cubicBezTo>
                  <a:pt x="4039" y="14370"/>
                  <a:pt x="4043" y="14549"/>
                  <a:pt x="4043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19120" y="5313240"/>
            <a:ext cx="1177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4093" y="14808"/>
                </a:moveTo>
                <a:cubicBezTo>
                  <a:pt x="3997" y="14904"/>
                  <a:pt x="3970" y="14917"/>
                  <a:pt x="3944" y="15056"/>
                </a:cubicBezTo>
                <a:cubicBezTo>
                  <a:pt x="4083" y="15140"/>
                  <a:pt x="4197" y="15074"/>
                  <a:pt x="4266" y="14908"/>
                </a:cubicBezTo>
                <a:cubicBezTo>
                  <a:pt x="4320" y="14777"/>
                  <a:pt x="4161" y="14769"/>
                  <a:pt x="4093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38200" y="4527720"/>
            <a:ext cx="11592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3994" y="12650"/>
                </a:moveTo>
                <a:cubicBezTo>
                  <a:pt x="4107" y="12572"/>
                  <a:pt x="4289" y="12554"/>
                  <a:pt x="4142" y="12750"/>
                </a:cubicBezTo>
                <a:cubicBezTo>
                  <a:pt x="4126" y="12758"/>
                  <a:pt x="4109" y="12766"/>
                  <a:pt x="4093" y="12774"/>
                </a:cubicBezTo>
                <a:cubicBezTo>
                  <a:pt x="4200" y="12791"/>
                  <a:pt x="4412" y="12846"/>
                  <a:pt x="4266" y="12998"/>
                </a:cubicBezTo>
                <a:cubicBezTo>
                  <a:pt x="4162" y="13049"/>
                  <a:pt x="4124" y="13067"/>
                  <a:pt x="4043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03200" y="5500800"/>
            <a:ext cx="46080" cy="169920"/>
          </a:xfrm>
          <a:custGeom>
            <a:avLst/>
            <a:gdLst/>
            <a:ahLst/>
            <a:rect l="l" t="t" r="r" b="b"/>
            <a:pathLst>
              <a:path w="126" h="472">
                <a:moveTo>
                  <a:pt x="3746" y="15280"/>
                </a:moveTo>
                <a:cubicBezTo>
                  <a:pt x="3681" y="15435"/>
                  <a:pt x="3656" y="15587"/>
                  <a:pt x="3621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11200" y="5491080"/>
            <a:ext cx="61920" cy="152640"/>
          </a:xfrm>
          <a:custGeom>
            <a:avLst/>
            <a:gdLst/>
            <a:ahLst/>
            <a:rect l="l" t="t" r="r" b="b"/>
            <a:pathLst>
              <a:path w="175" h="423">
                <a:moveTo>
                  <a:pt x="4043" y="15255"/>
                </a:moveTo>
                <a:cubicBezTo>
                  <a:pt x="3967" y="15290"/>
                  <a:pt x="3849" y="15346"/>
                  <a:pt x="3944" y="15453"/>
                </a:cubicBezTo>
                <a:cubicBezTo>
                  <a:pt x="4036" y="15557"/>
                  <a:pt x="4082" y="15523"/>
                  <a:pt x="4068" y="15652"/>
                </a:cubicBezTo>
                <a:cubicBezTo>
                  <a:pt x="3891" y="15668"/>
                  <a:pt x="3932" y="15565"/>
                  <a:pt x="4018" y="15429"/>
                </a:cubicBezTo>
                <a:cubicBezTo>
                  <a:pt x="4078" y="15349"/>
                  <a:pt x="4103" y="15341"/>
                  <a:pt x="4093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08080" y="5581800"/>
            <a:ext cx="54000" cy="9360"/>
          </a:xfrm>
          <a:custGeom>
            <a:avLst/>
            <a:gdLst/>
            <a:ahLst/>
            <a:rect l="l" t="t" r="r" b="b"/>
            <a:pathLst>
              <a:path w="150" h="26">
                <a:moveTo>
                  <a:pt x="3076" y="15528"/>
                </a:moveTo>
                <a:cubicBezTo>
                  <a:pt x="3126" y="15520"/>
                  <a:pt x="3175" y="15511"/>
                  <a:pt x="3225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000" y="5670720"/>
            <a:ext cx="320760" cy="36360"/>
          </a:xfrm>
          <a:custGeom>
            <a:avLst/>
            <a:gdLst/>
            <a:ahLst/>
            <a:rect l="l" t="t" r="r" b="b"/>
            <a:pathLst>
              <a:path w="894" h="100">
                <a:moveTo>
                  <a:pt x="3398" y="15850"/>
                </a:moveTo>
                <a:cubicBezTo>
                  <a:pt x="3694" y="15800"/>
                  <a:pt x="3991" y="15793"/>
                  <a:pt x="4291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0840" y="5749920"/>
            <a:ext cx="171360" cy="108000"/>
          </a:xfrm>
          <a:custGeom>
            <a:avLst/>
            <a:gdLst/>
            <a:ahLst/>
            <a:rect l="l" t="t" r="r" b="b"/>
            <a:pathLst>
              <a:path w="472" h="299">
                <a:moveTo>
                  <a:pt x="3671" y="15999"/>
                </a:moveTo>
                <a:cubicBezTo>
                  <a:pt x="3686" y="15998"/>
                  <a:pt x="4030" y="15934"/>
                  <a:pt x="3944" y="16073"/>
                </a:cubicBezTo>
                <a:cubicBezTo>
                  <a:pt x="3857" y="16161"/>
                  <a:pt x="3834" y="16180"/>
                  <a:pt x="3795" y="16247"/>
                </a:cubicBezTo>
                <a:cubicBezTo>
                  <a:pt x="3932" y="16264"/>
                  <a:pt x="4010" y="16242"/>
                  <a:pt x="4142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4760" y="4991040"/>
            <a:ext cx="108000" cy="15264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4564" y="13940"/>
                </a:moveTo>
                <a:cubicBezTo>
                  <a:pt x="4503" y="13879"/>
                  <a:pt x="4496" y="13854"/>
                  <a:pt x="4440" y="13866"/>
                </a:cubicBezTo>
                <a:cubicBezTo>
                  <a:pt x="4244" y="13992"/>
                  <a:pt x="4257" y="14109"/>
                  <a:pt x="4390" y="14288"/>
                </a:cubicBezTo>
                <a:cubicBezTo>
                  <a:pt x="4466" y="14248"/>
                  <a:pt x="4699" y="14094"/>
                  <a:pt x="4564" y="13965"/>
                </a:cubicBezTo>
                <a:cubicBezTo>
                  <a:pt x="4539" y="13957"/>
                  <a:pt x="4515" y="13948"/>
                  <a:pt x="4490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62040" y="5205240"/>
            <a:ext cx="27000" cy="393840"/>
          </a:xfrm>
          <a:custGeom>
            <a:avLst/>
            <a:gdLst/>
            <a:ahLst/>
            <a:rect l="l" t="t" r="r" b="b"/>
            <a:pathLst>
              <a:path w="75" h="1093">
                <a:moveTo>
                  <a:pt x="4415" y="14461"/>
                </a:moveTo>
                <a:cubicBezTo>
                  <a:pt x="4415" y="14741"/>
                  <a:pt x="4432" y="15026"/>
                  <a:pt x="4390" y="15304"/>
                </a:cubicBezTo>
                <a:cubicBezTo>
                  <a:pt x="4353" y="15453"/>
                  <a:pt x="4337" y="15468"/>
                  <a:pt x="4341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90760" y="5705640"/>
            <a:ext cx="117360" cy="8064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4366" y="15900"/>
                </a:moveTo>
                <a:cubicBezTo>
                  <a:pt x="4330" y="15829"/>
                  <a:pt x="4215" y="15849"/>
                  <a:pt x="4167" y="15925"/>
                </a:cubicBezTo>
                <a:cubicBezTo>
                  <a:pt x="4146" y="16007"/>
                  <a:pt x="4138" y="16022"/>
                  <a:pt x="4142" y="16073"/>
                </a:cubicBezTo>
                <a:cubicBezTo>
                  <a:pt x="4215" y="16067"/>
                  <a:pt x="4475" y="16009"/>
                  <a:pt x="4465" y="15900"/>
                </a:cubicBezTo>
                <a:cubicBezTo>
                  <a:pt x="4440" y="15883"/>
                  <a:pt x="4415" y="15867"/>
                  <a:pt x="439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ff"/>
                </a:solidFill>
                <a:latin typeface="Arial"/>
              </a:rPr>
              <a:t>Examples of writing fractions as a decim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:  Write      as a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Write      as a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Notice with the second one that we must divide since 8 is not a factor of 1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2438280"/>
          <a:ext cx="22068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220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200400" y="3809880"/>
          <a:ext cx="297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97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514600" y="3733920"/>
          <a:ext cx="2779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733920"/>
                    <a:ext cx="277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446120" y="642924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4018" y="17859"/>
                </a:moveTo>
                <a:cubicBezTo>
                  <a:pt x="4026" y="17859"/>
                  <a:pt x="4035" y="17859"/>
                  <a:pt x="4043" y="178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68920" y="2581200"/>
            <a:ext cx="241200" cy="615960"/>
          </a:xfrm>
          <a:custGeom>
            <a:avLst/>
            <a:gdLst/>
            <a:ahLst/>
            <a:rect l="l" t="t" r="r" b="b"/>
            <a:pathLst>
              <a:path w="670" h="1712">
                <a:moveTo>
                  <a:pt x="13345" y="7243"/>
                </a:moveTo>
                <a:cubicBezTo>
                  <a:pt x="13410" y="7197"/>
                  <a:pt x="13602" y="7092"/>
                  <a:pt x="13568" y="7268"/>
                </a:cubicBezTo>
                <a:cubicBezTo>
                  <a:pt x="13525" y="7355"/>
                  <a:pt x="13518" y="7379"/>
                  <a:pt x="13469" y="7417"/>
                </a:cubicBezTo>
                <a:cubicBezTo>
                  <a:pt x="13648" y="7416"/>
                  <a:pt x="13782" y="7587"/>
                  <a:pt x="13692" y="7789"/>
                </a:cubicBezTo>
                <a:cubicBezTo>
                  <a:pt x="13615" y="7963"/>
                  <a:pt x="13468" y="7897"/>
                  <a:pt x="13345" y="7863"/>
                </a:cubicBezTo>
              </a:path>
              <a:path w="670" h="1712">
                <a:moveTo>
                  <a:pt x="13246" y="8235"/>
                </a:moveTo>
                <a:cubicBezTo>
                  <a:pt x="13472" y="8235"/>
                  <a:pt x="13691" y="8237"/>
                  <a:pt x="13915" y="8260"/>
                </a:cubicBezTo>
              </a:path>
              <a:path w="670" h="1712">
                <a:moveTo>
                  <a:pt x="13643" y="8434"/>
                </a:moveTo>
                <a:cubicBezTo>
                  <a:pt x="13528" y="8449"/>
                  <a:pt x="13413" y="8471"/>
                  <a:pt x="13370" y="8607"/>
                </a:cubicBezTo>
                <a:cubicBezTo>
                  <a:pt x="13370" y="8624"/>
                  <a:pt x="13370" y="8640"/>
                  <a:pt x="13370" y="8657"/>
                </a:cubicBezTo>
                <a:cubicBezTo>
                  <a:pt x="13501" y="8635"/>
                  <a:pt x="13609" y="8533"/>
                  <a:pt x="13742" y="8632"/>
                </a:cubicBezTo>
                <a:cubicBezTo>
                  <a:pt x="13758" y="8657"/>
                  <a:pt x="13775" y="8681"/>
                  <a:pt x="13791" y="8706"/>
                </a:cubicBezTo>
                <a:cubicBezTo>
                  <a:pt x="13695" y="8901"/>
                  <a:pt x="13586" y="8873"/>
                  <a:pt x="13370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2374920"/>
            <a:ext cx="901800" cy="714240"/>
          </a:xfrm>
          <a:custGeom>
            <a:avLst/>
            <a:gdLst/>
            <a:ahLst/>
            <a:rect l="l" t="t" r="r" b="b"/>
            <a:pathLst>
              <a:path w="2506" h="1985">
                <a:moveTo>
                  <a:pt x="16793" y="7466"/>
                </a:moveTo>
                <a:cubicBezTo>
                  <a:pt x="16931" y="7405"/>
                  <a:pt x="17097" y="7377"/>
                  <a:pt x="16991" y="7615"/>
                </a:cubicBezTo>
                <a:cubicBezTo>
                  <a:pt x="16966" y="7648"/>
                  <a:pt x="16942" y="7681"/>
                  <a:pt x="16917" y="7714"/>
                </a:cubicBezTo>
                <a:cubicBezTo>
                  <a:pt x="16900" y="7722"/>
                  <a:pt x="16884" y="7731"/>
                  <a:pt x="16867" y="7739"/>
                </a:cubicBezTo>
                <a:cubicBezTo>
                  <a:pt x="16910" y="7589"/>
                  <a:pt x="17051" y="7715"/>
                  <a:pt x="17066" y="7838"/>
                </a:cubicBezTo>
                <a:cubicBezTo>
                  <a:pt x="17102" y="8136"/>
                  <a:pt x="16750" y="8016"/>
                  <a:pt x="16619" y="7962"/>
                </a:cubicBezTo>
              </a:path>
              <a:path w="2506" h="1985">
                <a:moveTo>
                  <a:pt x="16470" y="8210"/>
                </a:moveTo>
                <a:cubicBezTo>
                  <a:pt x="16554" y="8029"/>
                  <a:pt x="16599" y="7844"/>
                  <a:pt x="16570" y="7640"/>
                </a:cubicBezTo>
                <a:cubicBezTo>
                  <a:pt x="16555" y="7532"/>
                  <a:pt x="16504" y="7450"/>
                  <a:pt x="16495" y="7342"/>
                </a:cubicBezTo>
                <a:cubicBezTo>
                  <a:pt x="16753" y="7281"/>
                  <a:pt x="16998" y="7239"/>
                  <a:pt x="17264" y="7218"/>
                </a:cubicBezTo>
                <a:cubicBezTo>
                  <a:pt x="17636" y="7189"/>
                  <a:pt x="18007" y="7169"/>
                  <a:pt x="18380" y="7169"/>
                </a:cubicBezTo>
              </a:path>
              <a:path w="2506" h="1985">
                <a:moveTo>
                  <a:pt x="16247" y="7441"/>
                </a:moveTo>
                <a:cubicBezTo>
                  <a:pt x="16078" y="7490"/>
                  <a:pt x="16120" y="7473"/>
                  <a:pt x="16049" y="7615"/>
                </a:cubicBezTo>
                <a:cubicBezTo>
                  <a:pt x="15989" y="7714"/>
                  <a:pt x="15978" y="7728"/>
                  <a:pt x="15949" y="7789"/>
                </a:cubicBezTo>
                <a:cubicBezTo>
                  <a:pt x="16067" y="7734"/>
                  <a:pt x="16205" y="7619"/>
                  <a:pt x="16346" y="7714"/>
                </a:cubicBezTo>
                <a:cubicBezTo>
                  <a:pt x="16571" y="7865"/>
                  <a:pt x="16267" y="8022"/>
                  <a:pt x="16123" y="8012"/>
                </a:cubicBezTo>
                <a:cubicBezTo>
                  <a:pt x="15973" y="7969"/>
                  <a:pt x="15933" y="7970"/>
                  <a:pt x="15875" y="7888"/>
                </a:cubicBezTo>
              </a:path>
              <a:path w="2506" h="1985">
                <a:moveTo>
                  <a:pt x="17314" y="7813"/>
                </a:moveTo>
                <a:cubicBezTo>
                  <a:pt x="17330" y="7805"/>
                  <a:pt x="17347" y="7797"/>
                  <a:pt x="17363" y="7789"/>
                </a:cubicBezTo>
              </a:path>
              <a:path w="2506" h="1985">
                <a:moveTo>
                  <a:pt x="17338" y="6896"/>
                </a:moveTo>
                <a:lnTo>
                  <a:pt x="17338" y="6896"/>
                </a:lnTo>
              </a:path>
              <a:path w="2506" h="1985">
                <a:moveTo>
                  <a:pt x="17760" y="7441"/>
                </a:moveTo>
                <a:cubicBezTo>
                  <a:pt x="17648" y="7542"/>
                  <a:pt x="17570" y="7675"/>
                  <a:pt x="17587" y="7838"/>
                </a:cubicBezTo>
                <a:cubicBezTo>
                  <a:pt x="17595" y="7855"/>
                  <a:pt x="17603" y="7871"/>
                  <a:pt x="17611" y="7888"/>
                </a:cubicBezTo>
                <a:cubicBezTo>
                  <a:pt x="17754" y="7872"/>
                  <a:pt x="18007" y="7838"/>
                  <a:pt x="17934" y="7615"/>
                </a:cubicBezTo>
                <a:cubicBezTo>
                  <a:pt x="17859" y="7516"/>
                  <a:pt x="17834" y="7483"/>
                  <a:pt x="17760" y="7441"/>
                </a:cubicBezTo>
              </a:path>
              <a:path w="2506" h="1985">
                <a:moveTo>
                  <a:pt x="17859" y="6623"/>
                </a:moveTo>
                <a:cubicBezTo>
                  <a:pt x="17798" y="6643"/>
                  <a:pt x="17691" y="6860"/>
                  <a:pt x="17686" y="6995"/>
                </a:cubicBezTo>
                <a:cubicBezTo>
                  <a:pt x="17681" y="7124"/>
                  <a:pt x="17870" y="7043"/>
                  <a:pt x="17909" y="7020"/>
                </a:cubicBezTo>
                <a:cubicBezTo>
                  <a:pt x="17972" y="6978"/>
                  <a:pt x="17997" y="6974"/>
                  <a:pt x="17983" y="6921"/>
                </a:cubicBezTo>
                <a:cubicBezTo>
                  <a:pt x="17834" y="6980"/>
                  <a:pt x="17840" y="6966"/>
                  <a:pt x="17810" y="7119"/>
                </a:cubicBezTo>
              </a:path>
              <a:path w="2506" h="1985">
                <a:moveTo>
                  <a:pt x="16917" y="8210"/>
                </a:moveTo>
                <a:cubicBezTo>
                  <a:pt x="16998" y="8153"/>
                  <a:pt x="17038" y="8144"/>
                  <a:pt x="17140" y="8136"/>
                </a:cubicBezTo>
                <a:cubicBezTo>
                  <a:pt x="17111" y="8223"/>
                  <a:pt x="17063" y="8263"/>
                  <a:pt x="16991" y="8334"/>
                </a:cubicBezTo>
                <a:cubicBezTo>
                  <a:pt x="17161" y="8368"/>
                  <a:pt x="17198" y="8410"/>
                  <a:pt x="17165" y="8558"/>
                </a:cubicBezTo>
                <a:cubicBezTo>
                  <a:pt x="16990" y="8578"/>
                  <a:pt x="17000" y="8586"/>
                  <a:pt x="16892" y="8458"/>
                </a:cubicBezTo>
              </a:path>
              <a:path w="2506" h="1985">
                <a:moveTo>
                  <a:pt x="17611" y="8136"/>
                </a:moveTo>
                <a:cubicBezTo>
                  <a:pt x="17512" y="8260"/>
                  <a:pt x="17479" y="8300"/>
                  <a:pt x="17462" y="8409"/>
                </a:cubicBezTo>
                <a:cubicBezTo>
                  <a:pt x="17598" y="8511"/>
                  <a:pt x="17948" y="8582"/>
                  <a:pt x="17934" y="8260"/>
                </a:cubicBezTo>
                <a:cubicBezTo>
                  <a:pt x="17909" y="8219"/>
                  <a:pt x="17884" y="8177"/>
                  <a:pt x="17859" y="8136"/>
                </a:cubicBezTo>
              </a:path>
              <a:path w="2506" h="1985">
                <a:moveTo>
                  <a:pt x="17438" y="6896"/>
                </a:moveTo>
                <a:cubicBezTo>
                  <a:pt x="17407" y="6972"/>
                  <a:pt x="17433" y="6880"/>
                  <a:pt x="17314" y="6945"/>
                </a:cubicBezTo>
                <a:cubicBezTo>
                  <a:pt x="17359" y="6973"/>
                  <a:pt x="17361" y="6985"/>
                  <a:pt x="17388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95920" y="3340080"/>
            <a:ext cx="1839960" cy="633600"/>
          </a:xfrm>
          <a:custGeom>
            <a:avLst/>
            <a:gdLst/>
            <a:ahLst/>
            <a:rect l="l" t="t" r="r" b="b"/>
            <a:pathLst>
              <a:path w="5111" h="1762">
                <a:moveTo>
                  <a:pt x="13543" y="9723"/>
                </a:moveTo>
                <a:cubicBezTo>
                  <a:pt x="13636" y="9680"/>
                  <a:pt x="13931" y="9556"/>
                  <a:pt x="13791" y="9773"/>
                </a:cubicBezTo>
                <a:cubicBezTo>
                  <a:pt x="13721" y="9843"/>
                  <a:pt x="13700" y="9865"/>
                  <a:pt x="13643" y="9897"/>
                </a:cubicBezTo>
                <a:cubicBezTo>
                  <a:pt x="13651" y="9880"/>
                  <a:pt x="13659" y="9864"/>
                  <a:pt x="13667" y="9847"/>
                </a:cubicBezTo>
                <a:cubicBezTo>
                  <a:pt x="13808" y="9902"/>
                  <a:pt x="14005" y="10058"/>
                  <a:pt x="13717" y="10120"/>
                </a:cubicBezTo>
                <a:cubicBezTo>
                  <a:pt x="13581" y="10120"/>
                  <a:pt x="13543" y="10126"/>
                  <a:pt x="13469" y="10071"/>
                </a:cubicBezTo>
              </a:path>
              <a:path w="5111" h="1762">
                <a:moveTo>
                  <a:pt x="13320" y="10393"/>
                </a:moveTo>
                <a:cubicBezTo>
                  <a:pt x="13544" y="10369"/>
                  <a:pt x="13767" y="10347"/>
                  <a:pt x="13990" y="10319"/>
                </a:cubicBezTo>
              </a:path>
              <a:path w="5111" h="1762">
                <a:moveTo>
                  <a:pt x="13643" y="10592"/>
                </a:moveTo>
                <a:cubicBezTo>
                  <a:pt x="13447" y="10634"/>
                  <a:pt x="13470" y="10596"/>
                  <a:pt x="13444" y="10765"/>
                </a:cubicBezTo>
                <a:cubicBezTo>
                  <a:pt x="13425" y="10839"/>
                  <a:pt x="13417" y="10846"/>
                  <a:pt x="13419" y="10889"/>
                </a:cubicBezTo>
                <a:cubicBezTo>
                  <a:pt x="13495" y="10852"/>
                  <a:pt x="13698" y="10732"/>
                  <a:pt x="13742" y="10864"/>
                </a:cubicBezTo>
                <a:cubicBezTo>
                  <a:pt x="13813" y="11076"/>
                  <a:pt x="13477" y="11011"/>
                  <a:pt x="13395" y="10988"/>
                </a:cubicBezTo>
              </a:path>
              <a:path w="5111" h="1762">
                <a:moveTo>
                  <a:pt x="14312" y="10294"/>
                </a:moveTo>
                <a:cubicBezTo>
                  <a:pt x="14371" y="10294"/>
                  <a:pt x="14397" y="10291"/>
                  <a:pt x="14436" y="10269"/>
                </a:cubicBezTo>
              </a:path>
              <a:path w="5111" h="1762">
                <a:moveTo>
                  <a:pt x="14387" y="10319"/>
                </a:moveTo>
                <a:lnTo>
                  <a:pt x="14387" y="10319"/>
                </a:lnTo>
              </a:path>
              <a:path w="5111" h="1762">
                <a:moveTo>
                  <a:pt x="14238" y="10120"/>
                </a:moveTo>
                <a:cubicBezTo>
                  <a:pt x="14318" y="10132"/>
                  <a:pt x="14447" y="10263"/>
                  <a:pt x="14536" y="10344"/>
                </a:cubicBezTo>
              </a:path>
              <a:path w="5111" h="1762">
                <a:moveTo>
                  <a:pt x="14461" y="10071"/>
                </a:moveTo>
                <a:cubicBezTo>
                  <a:pt x="14415" y="10175"/>
                  <a:pt x="14367" y="10269"/>
                  <a:pt x="14312" y="10368"/>
                </a:cubicBezTo>
              </a:path>
              <a:path w="5111" h="1762">
                <a:moveTo>
                  <a:pt x="15677" y="10170"/>
                </a:moveTo>
                <a:cubicBezTo>
                  <a:pt x="15809" y="10148"/>
                  <a:pt x="15841" y="10139"/>
                  <a:pt x="15925" y="10145"/>
                </a:cubicBezTo>
              </a:path>
              <a:path w="5111" h="1762">
                <a:moveTo>
                  <a:pt x="15652" y="10368"/>
                </a:moveTo>
                <a:cubicBezTo>
                  <a:pt x="15743" y="10308"/>
                  <a:pt x="15788" y="10288"/>
                  <a:pt x="15875" y="10294"/>
                </a:cubicBezTo>
              </a:path>
              <a:path w="5111" h="1762">
                <a:moveTo>
                  <a:pt x="16321" y="10294"/>
                </a:moveTo>
                <a:cubicBezTo>
                  <a:pt x="16335" y="10416"/>
                  <a:pt x="16346" y="10520"/>
                  <a:pt x="16346" y="10641"/>
                </a:cubicBezTo>
              </a:path>
              <a:path w="5111" h="1762">
                <a:moveTo>
                  <a:pt x="16669" y="10145"/>
                </a:moveTo>
                <a:cubicBezTo>
                  <a:pt x="16573" y="10265"/>
                  <a:pt x="16542" y="10303"/>
                  <a:pt x="16495" y="10393"/>
                </a:cubicBezTo>
                <a:cubicBezTo>
                  <a:pt x="16609" y="10526"/>
                  <a:pt x="16838" y="10631"/>
                  <a:pt x="16966" y="10393"/>
                </a:cubicBezTo>
                <a:cubicBezTo>
                  <a:pt x="17061" y="10216"/>
                  <a:pt x="16811" y="10198"/>
                  <a:pt x="16718" y="10170"/>
                </a:cubicBezTo>
              </a:path>
              <a:path w="5111" h="1762">
                <a:moveTo>
                  <a:pt x="17289" y="10244"/>
                </a:moveTo>
                <a:cubicBezTo>
                  <a:pt x="17137" y="10310"/>
                  <a:pt x="17129" y="10312"/>
                  <a:pt x="17090" y="10468"/>
                </a:cubicBezTo>
                <a:cubicBezTo>
                  <a:pt x="17348" y="10544"/>
                  <a:pt x="17461" y="10544"/>
                  <a:pt x="17587" y="10319"/>
                </a:cubicBezTo>
                <a:cubicBezTo>
                  <a:pt x="17463" y="10221"/>
                  <a:pt x="17422" y="10188"/>
                  <a:pt x="17314" y="10170"/>
                </a:cubicBezTo>
              </a:path>
              <a:path w="5111" h="1762">
                <a:moveTo>
                  <a:pt x="16421" y="10071"/>
                </a:moveTo>
                <a:cubicBezTo>
                  <a:pt x="16564" y="9999"/>
                  <a:pt x="16867" y="10052"/>
                  <a:pt x="17016" y="10046"/>
                </a:cubicBezTo>
                <a:cubicBezTo>
                  <a:pt x="17243" y="10036"/>
                  <a:pt x="17460" y="10021"/>
                  <a:pt x="17686" y="10021"/>
                </a:cubicBezTo>
              </a:path>
              <a:path w="5111" h="1762">
                <a:moveTo>
                  <a:pt x="14784" y="10319"/>
                </a:moveTo>
                <a:cubicBezTo>
                  <a:pt x="14890" y="10276"/>
                  <a:pt x="14911" y="10260"/>
                  <a:pt x="14982" y="10269"/>
                </a:cubicBezTo>
                <a:cubicBezTo>
                  <a:pt x="14911" y="10436"/>
                  <a:pt x="14745" y="10467"/>
                  <a:pt x="14635" y="10592"/>
                </a:cubicBezTo>
                <a:cubicBezTo>
                  <a:pt x="14563" y="10674"/>
                  <a:pt x="14801" y="10617"/>
                  <a:pt x="14908" y="10592"/>
                </a:cubicBezTo>
              </a:path>
              <a:path w="5111" h="1762">
                <a:moveTo>
                  <a:pt x="15280" y="10269"/>
                </a:moveTo>
                <a:cubicBezTo>
                  <a:pt x="15178" y="10364"/>
                  <a:pt x="15142" y="10361"/>
                  <a:pt x="15156" y="10492"/>
                </a:cubicBezTo>
                <a:cubicBezTo>
                  <a:pt x="15307" y="10460"/>
                  <a:pt x="15486" y="10400"/>
                  <a:pt x="15354" y="10269"/>
                </a:cubicBezTo>
              </a:path>
              <a:path w="5111" h="1762">
                <a:moveTo>
                  <a:pt x="14932" y="10120"/>
                </a:moveTo>
                <a:cubicBezTo>
                  <a:pt x="15123" y="10073"/>
                  <a:pt x="15181" y="10059"/>
                  <a:pt x="15304" y="10021"/>
                </a:cubicBezTo>
              </a:path>
              <a:path w="5111" h="1762">
                <a:moveTo>
                  <a:pt x="14660" y="9649"/>
                </a:moveTo>
                <a:cubicBezTo>
                  <a:pt x="14764" y="9607"/>
                  <a:pt x="14791" y="9575"/>
                  <a:pt x="14833" y="9649"/>
                </a:cubicBezTo>
                <a:cubicBezTo>
                  <a:pt x="14846" y="9799"/>
                  <a:pt x="14758" y="9828"/>
                  <a:pt x="14660" y="9947"/>
                </a:cubicBezTo>
                <a:cubicBezTo>
                  <a:pt x="14768" y="9971"/>
                  <a:pt x="14822" y="9967"/>
                  <a:pt x="14932" y="9947"/>
                </a:cubicBezTo>
              </a:path>
              <a:path w="5111" h="1762">
                <a:moveTo>
                  <a:pt x="15007" y="9550"/>
                </a:moveTo>
                <a:cubicBezTo>
                  <a:pt x="14957" y="9664"/>
                  <a:pt x="14823" y="10030"/>
                  <a:pt x="15131" y="9872"/>
                </a:cubicBezTo>
                <a:cubicBezTo>
                  <a:pt x="15306" y="9782"/>
                  <a:pt x="15225" y="9700"/>
                  <a:pt x="15156" y="9599"/>
                </a:cubicBezTo>
              </a:path>
              <a:path w="5111" h="1762">
                <a:moveTo>
                  <a:pt x="16768" y="9277"/>
                </a:moveTo>
                <a:cubicBezTo>
                  <a:pt x="16691" y="9468"/>
                  <a:pt x="16646" y="9621"/>
                  <a:pt x="16669" y="9823"/>
                </a:cubicBezTo>
                <a:cubicBezTo>
                  <a:pt x="16865" y="9783"/>
                  <a:pt x="16913" y="9732"/>
                  <a:pt x="16991" y="9550"/>
                </a:cubicBezTo>
                <a:cubicBezTo>
                  <a:pt x="16829" y="9613"/>
                  <a:pt x="16845" y="9652"/>
                  <a:pt x="16793" y="9823"/>
                </a:cubicBezTo>
              </a:path>
              <a:path w="5111" h="1762">
                <a:moveTo>
                  <a:pt x="17289" y="9302"/>
                </a:moveTo>
                <a:cubicBezTo>
                  <a:pt x="17086" y="9466"/>
                  <a:pt x="17043" y="9568"/>
                  <a:pt x="17165" y="9798"/>
                </a:cubicBezTo>
                <a:cubicBezTo>
                  <a:pt x="17351" y="9709"/>
                  <a:pt x="17642" y="9519"/>
                  <a:pt x="17363" y="9302"/>
                </a:cubicBezTo>
                <a:cubicBezTo>
                  <a:pt x="17322" y="9294"/>
                  <a:pt x="17280" y="9285"/>
                  <a:pt x="17239" y="9277"/>
                </a:cubicBezTo>
              </a:path>
              <a:path w="5111" h="1762">
                <a:moveTo>
                  <a:pt x="18157" y="9773"/>
                </a:moveTo>
                <a:cubicBezTo>
                  <a:pt x="18251" y="9756"/>
                  <a:pt x="18334" y="9734"/>
                  <a:pt x="18430" y="9723"/>
                </a:cubicBezTo>
              </a:path>
              <a:path w="5111" h="1762">
                <a:moveTo>
                  <a:pt x="18083" y="9947"/>
                </a:moveTo>
                <a:cubicBezTo>
                  <a:pt x="18141" y="9930"/>
                  <a:pt x="18198" y="9914"/>
                  <a:pt x="18256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31000" y="3340080"/>
            <a:ext cx="536760" cy="223920"/>
          </a:xfrm>
          <a:custGeom>
            <a:avLst/>
            <a:gdLst/>
            <a:ahLst/>
            <a:rect l="l" t="t" r="r" b="b"/>
            <a:pathLst>
              <a:path w="1489" h="621">
                <a:moveTo>
                  <a:pt x="19075" y="9872"/>
                </a:moveTo>
                <a:cubicBezTo>
                  <a:pt x="19083" y="9839"/>
                  <a:pt x="19092" y="9806"/>
                  <a:pt x="19100" y="9773"/>
                </a:cubicBezTo>
                <a:cubicBezTo>
                  <a:pt x="18982" y="9837"/>
                  <a:pt x="18993" y="9973"/>
                  <a:pt x="19075" y="9897"/>
                </a:cubicBezTo>
                <a:cubicBezTo>
                  <a:pt x="19097" y="9832"/>
                  <a:pt x="19105" y="9817"/>
                  <a:pt x="19100" y="9773"/>
                </a:cubicBezTo>
              </a:path>
              <a:path w="1489" h="621">
                <a:moveTo>
                  <a:pt x="19571" y="9277"/>
                </a:moveTo>
                <a:cubicBezTo>
                  <a:pt x="19518" y="9417"/>
                  <a:pt x="19315" y="9763"/>
                  <a:pt x="19496" y="9872"/>
                </a:cubicBezTo>
                <a:cubicBezTo>
                  <a:pt x="19671" y="9978"/>
                  <a:pt x="19758" y="9802"/>
                  <a:pt x="19844" y="9699"/>
                </a:cubicBezTo>
                <a:cubicBezTo>
                  <a:pt x="19694" y="9615"/>
                  <a:pt x="19673" y="9727"/>
                  <a:pt x="19645" y="9872"/>
                </a:cubicBezTo>
              </a:path>
              <a:path w="1489" h="621">
                <a:moveTo>
                  <a:pt x="20315" y="9302"/>
                </a:moveTo>
                <a:cubicBezTo>
                  <a:pt x="20090" y="9421"/>
                  <a:pt x="20028" y="9534"/>
                  <a:pt x="20117" y="9773"/>
                </a:cubicBezTo>
                <a:cubicBezTo>
                  <a:pt x="20411" y="9759"/>
                  <a:pt x="20457" y="9672"/>
                  <a:pt x="20389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3160" y="4680000"/>
            <a:ext cx="1162080" cy="463680"/>
          </a:xfrm>
          <a:custGeom>
            <a:avLst/>
            <a:gdLst/>
            <a:ahLst/>
            <a:rect l="l" t="t" r="r" b="b"/>
            <a:pathLst>
              <a:path w="3225" h="1291">
                <a:moveTo>
                  <a:pt x="6524" y="13469"/>
                </a:moveTo>
                <a:cubicBezTo>
                  <a:pt x="6668" y="13453"/>
                  <a:pt x="6800" y="13444"/>
                  <a:pt x="6945" y="13444"/>
                </a:cubicBezTo>
                <a:cubicBezTo>
                  <a:pt x="6888" y="13597"/>
                  <a:pt x="6809" y="13757"/>
                  <a:pt x="6747" y="13915"/>
                </a:cubicBezTo>
              </a:path>
              <a:path w="3225" h="1291">
                <a:moveTo>
                  <a:pt x="6276" y="14288"/>
                </a:moveTo>
                <a:cubicBezTo>
                  <a:pt x="6246" y="14109"/>
                  <a:pt x="6249" y="13851"/>
                  <a:pt x="6201" y="13667"/>
                </a:cubicBezTo>
                <a:cubicBezTo>
                  <a:pt x="6165" y="13528"/>
                  <a:pt x="6086" y="13397"/>
                  <a:pt x="6028" y="13271"/>
                </a:cubicBezTo>
                <a:cubicBezTo>
                  <a:pt x="6318" y="13250"/>
                  <a:pt x="6603" y="13171"/>
                  <a:pt x="6896" y="13146"/>
                </a:cubicBezTo>
                <a:cubicBezTo>
                  <a:pt x="7446" y="13100"/>
                  <a:pt x="8006" y="13010"/>
                  <a:pt x="8558" y="12998"/>
                </a:cubicBezTo>
                <a:cubicBezTo>
                  <a:pt x="8640" y="12998"/>
                  <a:pt x="8657" y="12998"/>
                  <a:pt x="8706" y="12998"/>
                </a:cubicBezTo>
              </a:path>
              <a:path w="3225" h="1291">
                <a:moveTo>
                  <a:pt x="5680" y="13419"/>
                </a:moveTo>
                <a:cubicBezTo>
                  <a:pt x="5562" y="13490"/>
                  <a:pt x="5525" y="13510"/>
                  <a:pt x="5482" y="13593"/>
                </a:cubicBezTo>
                <a:cubicBezTo>
                  <a:pt x="5579" y="13758"/>
                  <a:pt x="5790" y="13751"/>
                  <a:pt x="5879" y="13915"/>
                </a:cubicBezTo>
                <a:cubicBezTo>
                  <a:pt x="5969" y="14081"/>
                  <a:pt x="5727" y="14078"/>
                  <a:pt x="5655" y="14089"/>
                </a:cubicBezTo>
                <a:cubicBezTo>
                  <a:pt x="5628" y="13881"/>
                  <a:pt x="5702" y="13792"/>
                  <a:pt x="5755" y="13593"/>
                </a:cubicBezTo>
                <a:cubicBezTo>
                  <a:pt x="5755" y="13576"/>
                  <a:pt x="5755" y="13560"/>
                  <a:pt x="5755" y="13543"/>
                </a:cubicBezTo>
              </a:path>
              <a:path w="3225" h="1291">
                <a:moveTo>
                  <a:pt x="7193" y="13791"/>
                </a:moveTo>
                <a:lnTo>
                  <a:pt x="7193" y="137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46200" y="4259160"/>
            <a:ext cx="955800" cy="2000520"/>
          </a:xfrm>
          <a:custGeom>
            <a:avLst/>
            <a:gdLst/>
            <a:ahLst/>
            <a:rect l="l" t="t" r="r" b="b"/>
            <a:pathLst>
              <a:path w="2656" h="5557">
                <a:moveTo>
                  <a:pt x="7193" y="12948"/>
                </a:moveTo>
                <a:cubicBezTo>
                  <a:pt x="7177" y="12956"/>
                  <a:pt x="7160" y="12965"/>
                  <a:pt x="7144" y="12973"/>
                </a:cubicBezTo>
                <a:cubicBezTo>
                  <a:pt x="7287" y="12931"/>
                  <a:pt x="7149" y="12856"/>
                  <a:pt x="7094" y="12948"/>
                </a:cubicBezTo>
                <a:cubicBezTo>
                  <a:pt x="7094" y="12965"/>
                  <a:pt x="7094" y="12981"/>
                  <a:pt x="7094" y="12998"/>
                </a:cubicBezTo>
              </a:path>
              <a:path w="2656" h="5557">
                <a:moveTo>
                  <a:pt x="7739" y="13320"/>
                </a:moveTo>
                <a:cubicBezTo>
                  <a:pt x="7747" y="13304"/>
                  <a:pt x="7756" y="13287"/>
                  <a:pt x="7764" y="13271"/>
                </a:cubicBezTo>
                <a:cubicBezTo>
                  <a:pt x="7624" y="13177"/>
                  <a:pt x="7496" y="13343"/>
                  <a:pt x="7466" y="13494"/>
                </a:cubicBezTo>
                <a:cubicBezTo>
                  <a:pt x="7487" y="13619"/>
                  <a:pt x="7472" y="13661"/>
                  <a:pt x="7565" y="13667"/>
                </a:cubicBezTo>
                <a:cubicBezTo>
                  <a:pt x="7697" y="13527"/>
                  <a:pt x="7706" y="13529"/>
                  <a:pt x="7665" y="13345"/>
                </a:cubicBezTo>
              </a:path>
              <a:path w="2656" h="5557">
                <a:moveTo>
                  <a:pt x="7665" y="12378"/>
                </a:moveTo>
                <a:cubicBezTo>
                  <a:pt x="7542" y="12353"/>
                  <a:pt x="7501" y="12344"/>
                  <a:pt x="7441" y="12427"/>
                </a:cubicBezTo>
                <a:cubicBezTo>
                  <a:pt x="7460" y="12533"/>
                  <a:pt x="7672" y="12560"/>
                  <a:pt x="7714" y="12700"/>
                </a:cubicBezTo>
                <a:cubicBezTo>
                  <a:pt x="7743" y="12795"/>
                  <a:pt x="7540" y="12792"/>
                  <a:pt x="7491" y="12799"/>
                </a:cubicBezTo>
                <a:cubicBezTo>
                  <a:pt x="7545" y="12673"/>
                  <a:pt x="7603" y="12550"/>
                  <a:pt x="7665" y="12427"/>
                </a:cubicBezTo>
              </a:path>
              <a:path w="2656" h="5557">
                <a:moveTo>
                  <a:pt x="6896" y="13965"/>
                </a:moveTo>
                <a:cubicBezTo>
                  <a:pt x="6844" y="14082"/>
                  <a:pt x="6825" y="14213"/>
                  <a:pt x="6846" y="14337"/>
                </a:cubicBezTo>
                <a:cubicBezTo>
                  <a:pt x="6919" y="14311"/>
                  <a:pt x="7247" y="14199"/>
                  <a:pt x="7169" y="14064"/>
                </a:cubicBezTo>
                <a:cubicBezTo>
                  <a:pt x="7108" y="13958"/>
                  <a:pt x="6960" y="14240"/>
                  <a:pt x="6945" y="14263"/>
                </a:cubicBezTo>
              </a:path>
              <a:path w="2656" h="5557">
                <a:moveTo>
                  <a:pt x="7640" y="13841"/>
                </a:moveTo>
                <a:cubicBezTo>
                  <a:pt x="7557" y="13965"/>
                  <a:pt x="7568" y="14001"/>
                  <a:pt x="7714" y="13990"/>
                </a:cubicBezTo>
              </a:path>
              <a:path w="2656" h="5557">
                <a:moveTo>
                  <a:pt x="7764" y="13618"/>
                </a:moveTo>
                <a:cubicBezTo>
                  <a:pt x="7724" y="13798"/>
                  <a:pt x="7709" y="13983"/>
                  <a:pt x="7665" y="14163"/>
                </a:cubicBezTo>
              </a:path>
              <a:path w="2656" h="5557">
                <a:moveTo>
                  <a:pt x="6796" y="14536"/>
                </a:moveTo>
                <a:cubicBezTo>
                  <a:pt x="7194" y="14405"/>
                  <a:pt x="7584" y="14236"/>
                  <a:pt x="7987" y="14139"/>
                </a:cubicBezTo>
              </a:path>
              <a:path w="2656" h="5557">
                <a:moveTo>
                  <a:pt x="7689" y="14387"/>
                </a:moveTo>
                <a:cubicBezTo>
                  <a:pt x="7660" y="14445"/>
                  <a:pt x="7493" y="14700"/>
                  <a:pt x="7615" y="14759"/>
                </a:cubicBezTo>
                <a:cubicBezTo>
                  <a:pt x="7747" y="14822"/>
                  <a:pt x="7845" y="14657"/>
                  <a:pt x="7913" y="14585"/>
                </a:cubicBezTo>
                <a:cubicBezTo>
                  <a:pt x="7767" y="14651"/>
                  <a:pt x="7723" y="14616"/>
                  <a:pt x="7739" y="14759"/>
                </a:cubicBezTo>
              </a:path>
              <a:path w="2656" h="5557">
                <a:moveTo>
                  <a:pt x="8086" y="13419"/>
                </a:moveTo>
                <a:cubicBezTo>
                  <a:pt x="8029" y="13387"/>
                  <a:pt x="8023" y="13379"/>
                  <a:pt x="7962" y="13370"/>
                </a:cubicBezTo>
                <a:cubicBezTo>
                  <a:pt x="7908" y="13502"/>
                  <a:pt x="7800" y="13692"/>
                  <a:pt x="8012" y="13692"/>
                </a:cubicBezTo>
                <a:cubicBezTo>
                  <a:pt x="8226" y="13692"/>
                  <a:pt x="8145" y="13502"/>
                  <a:pt x="8086" y="13395"/>
                </a:cubicBezTo>
              </a:path>
              <a:path w="2656" h="5557">
                <a:moveTo>
                  <a:pt x="8037" y="13866"/>
                </a:moveTo>
                <a:cubicBezTo>
                  <a:pt x="8037" y="13990"/>
                  <a:pt x="8037" y="14114"/>
                  <a:pt x="8037" y="14238"/>
                </a:cubicBezTo>
              </a:path>
              <a:path w="2656" h="5557">
                <a:moveTo>
                  <a:pt x="8235" y="14412"/>
                </a:moveTo>
                <a:cubicBezTo>
                  <a:pt x="8108" y="14454"/>
                  <a:pt x="8086" y="14525"/>
                  <a:pt x="8062" y="14660"/>
                </a:cubicBezTo>
                <a:cubicBezTo>
                  <a:pt x="8163" y="14666"/>
                  <a:pt x="8463" y="14639"/>
                  <a:pt x="8310" y="14436"/>
                </a:cubicBezTo>
                <a:cubicBezTo>
                  <a:pt x="8277" y="14420"/>
                  <a:pt x="8243" y="14403"/>
                  <a:pt x="8210" y="14387"/>
                </a:cubicBezTo>
              </a:path>
              <a:path w="2656" h="5557">
                <a:moveTo>
                  <a:pt x="8111" y="12179"/>
                </a:moveTo>
                <a:cubicBezTo>
                  <a:pt x="8119" y="12179"/>
                  <a:pt x="8128" y="12179"/>
                  <a:pt x="8136" y="12179"/>
                </a:cubicBezTo>
              </a:path>
              <a:path w="2656" h="5557">
                <a:moveTo>
                  <a:pt x="7789" y="12328"/>
                </a:moveTo>
                <a:cubicBezTo>
                  <a:pt x="7921" y="12284"/>
                  <a:pt x="8048" y="12249"/>
                  <a:pt x="8186" y="12229"/>
                </a:cubicBezTo>
                <a:cubicBezTo>
                  <a:pt x="8234" y="12329"/>
                  <a:pt x="8132" y="12523"/>
                  <a:pt x="8111" y="12650"/>
                </a:cubicBezTo>
                <a:cubicBezTo>
                  <a:pt x="8111" y="12675"/>
                  <a:pt x="8111" y="12700"/>
                  <a:pt x="8111" y="12725"/>
                </a:cubicBezTo>
              </a:path>
              <a:path w="2656" h="5557">
                <a:moveTo>
                  <a:pt x="7813" y="14932"/>
                </a:moveTo>
                <a:cubicBezTo>
                  <a:pt x="7675" y="15017"/>
                  <a:pt x="7606" y="15010"/>
                  <a:pt x="7640" y="15156"/>
                </a:cubicBezTo>
                <a:cubicBezTo>
                  <a:pt x="7660" y="15241"/>
                  <a:pt x="7739" y="15192"/>
                  <a:pt x="7813" y="15205"/>
                </a:cubicBezTo>
                <a:cubicBezTo>
                  <a:pt x="8021" y="15241"/>
                  <a:pt x="7851" y="15402"/>
                  <a:pt x="7739" y="15429"/>
                </a:cubicBezTo>
                <a:cubicBezTo>
                  <a:pt x="7643" y="15429"/>
                  <a:pt x="7612" y="15431"/>
                  <a:pt x="7590" y="15354"/>
                </a:cubicBezTo>
              </a:path>
              <a:path w="2656" h="5557">
                <a:moveTo>
                  <a:pt x="8285" y="14833"/>
                </a:moveTo>
                <a:cubicBezTo>
                  <a:pt x="8230" y="14997"/>
                  <a:pt x="8194" y="15132"/>
                  <a:pt x="8186" y="15304"/>
                </a:cubicBezTo>
                <a:cubicBezTo>
                  <a:pt x="8343" y="15329"/>
                  <a:pt x="8493" y="15294"/>
                  <a:pt x="8533" y="15106"/>
                </a:cubicBezTo>
                <a:cubicBezTo>
                  <a:pt x="8567" y="14949"/>
                  <a:pt x="8306" y="15233"/>
                  <a:pt x="8285" y="15280"/>
                </a:cubicBezTo>
              </a:path>
              <a:path w="2656" h="5557">
                <a:moveTo>
                  <a:pt x="7689" y="15627"/>
                </a:moveTo>
                <a:cubicBezTo>
                  <a:pt x="8014" y="15530"/>
                  <a:pt x="8322" y="15474"/>
                  <a:pt x="8657" y="15429"/>
                </a:cubicBezTo>
              </a:path>
              <a:path w="2656" h="5557">
                <a:moveTo>
                  <a:pt x="8334" y="15751"/>
                </a:moveTo>
                <a:cubicBezTo>
                  <a:pt x="8320" y="15830"/>
                  <a:pt x="8294" y="15899"/>
                  <a:pt x="8260" y="15974"/>
                </a:cubicBezTo>
                <a:cubicBezTo>
                  <a:pt x="8451" y="15961"/>
                  <a:pt x="8538" y="15923"/>
                  <a:pt x="8682" y="15801"/>
                </a:cubicBezTo>
              </a:path>
              <a:path w="2656" h="5557">
                <a:moveTo>
                  <a:pt x="8607" y="15701"/>
                </a:moveTo>
                <a:cubicBezTo>
                  <a:pt x="8592" y="15852"/>
                  <a:pt x="8545" y="16000"/>
                  <a:pt x="8508" y="16148"/>
                </a:cubicBezTo>
              </a:path>
              <a:path w="2656" h="5557">
                <a:moveTo>
                  <a:pt x="8558" y="13171"/>
                </a:moveTo>
                <a:cubicBezTo>
                  <a:pt x="8389" y="13087"/>
                  <a:pt x="8316" y="13189"/>
                  <a:pt x="8310" y="13419"/>
                </a:cubicBezTo>
                <a:cubicBezTo>
                  <a:pt x="8304" y="13640"/>
                  <a:pt x="8617" y="13932"/>
                  <a:pt x="8706" y="13593"/>
                </a:cubicBezTo>
                <a:cubicBezTo>
                  <a:pt x="8683" y="13447"/>
                  <a:pt x="8677" y="13400"/>
                  <a:pt x="8582" y="13345"/>
                </a:cubicBezTo>
              </a:path>
              <a:path w="2656" h="5557">
                <a:moveTo>
                  <a:pt x="8657" y="13915"/>
                </a:moveTo>
                <a:cubicBezTo>
                  <a:pt x="8668" y="14213"/>
                  <a:pt x="8701" y="14511"/>
                  <a:pt x="8731" y="14808"/>
                </a:cubicBezTo>
                <a:cubicBezTo>
                  <a:pt x="8747" y="14960"/>
                  <a:pt x="8765" y="15086"/>
                  <a:pt x="8806" y="15230"/>
                </a:cubicBezTo>
              </a:path>
              <a:path w="2656" h="5557">
                <a:moveTo>
                  <a:pt x="8855" y="15652"/>
                </a:moveTo>
                <a:cubicBezTo>
                  <a:pt x="8856" y="15699"/>
                  <a:pt x="8788" y="15888"/>
                  <a:pt x="8855" y="16049"/>
                </a:cubicBezTo>
                <a:cubicBezTo>
                  <a:pt x="9047" y="16039"/>
                  <a:pt x="9352" y="15913"/>
                  <a:pt x="9128" y="15652"/>
                </a:cubicBezTo>
                <a:cubicBezTo>
                  <a:pt x="9078" y="15627"/>
                  <a:pt x="9029" y="15602"/>
                  <a:pt x="8979" y="15577"/>
                </a:cubicBezTo>
              </a:path>
              <a:path w="2656" h="5557">
                <a:moveTo>
                  <a:pt x="8781" y="12179"/>
                </a:moveTo>
                <a:cubicBezTo>
                  <a:pt x="8639" y="12191"/>
                  <a:pt x="8598" y="12181"/>
                  <a:pt x="8533" y="12328"/>
                </a:cubicBezTo>
                <a:cubicBezTo>
                  <a:pt x="8494" y="12443"/>
                  <a:pt x="8478" y="12456"/>
                  <a:pt x="8483" y="12526"/>
                </a:cubicBezTo>
                <a:cubicBezTo>
                  <a:pt x="8567" y="12458"/>
                  <a:pt x="8675" y="12391"/>
                  <a:pt x="8781" y="12502"/>
                </a:cubicBezTo>
                <a:cubicBezTo>
                  <a:pt x="8976" y="12706"/>
                  <a:pt x="8519" y="12764"/>
                  <a:pt x="8434" y="12774"/>
                </a:cubicBezTo>
              </a:path>
              <a:path w="2656" h="5557">
                <a:moveTo>
                  <a:pt x="8458" y="16148"/>
                </a:moveTo>
                <a:cubicBezTo>
                  <a:pt x="8465" y="16306"/>
                  <a:pt x="8494" y="16310"/>
                  <a:pt x="8409" y="16446"/>
                </a:cubicBezTo>
                <a:cubicBezTo>
                  <a:pt x="8529" y="16403"/>
                  <a:pt x="8674" y="16412"/>
                  <a:pt x="8781" y="16371"/>
                </a:cubicBezTo>
                <a:cubicBezTo>
                  <a:pt x="8798" y="16365"/>
                  <a:pt x="8781" y="16216"/>
                  <a:pt x="8781" y="16173"/>
                </a:cubicBezTo>
                <a:cubicBezTo>
                  <a:pt x="8717" y="16364"/>
                  <a:pt x="8652" y="16548"/>
                  <a:pt x="8682" y="16743"/>
                </a:cubicBezTo>
              </a:path>
              <a:path w="2656" h="5557">
                <a:moveTo>
                  <a:pt x="8930" y="16321"/>
                </a:moveTo>
                <a:cubicBezTo>
                  <a:pt x="8867" y="16468"/>
                  <a:pt x="8834" y="16498"/>
                  <a:pt x="8880" y="16594"/>
                </a:cubicBezTo>
                <a:cubicBezTo>
                  <a:pt x="9035" y="16594"/>
                  <a:pt x="9308" y="16444"/>
                  <a:pt x="9128" y="16222"/>
                </a:cubicBezTo>
                <a:cubicBezTo>
                  <a:pt x="9087" y="16214"/>
                  <a:pt x="9045" y="16205"/>
                  <a:pt x="9004" y="16197"/>
                </a:cubicBezTo>
              </a:path>
              <a:path w="2656" h="5557">
                <a:moveTo>
                  <a:pt x="8359" y="16892"/>
                </a:moveTo>
                <a:cubicBezTo>
                  <a:pt x="8716" y="16841"/>
                  <a:pt x="9070" y="16776"/>
                  <a:pt x="9426" y="16718"/>
                </a:cubicBezTo>
              </a:path>
              <a:path w="2656" h="5557">
                <a:moveTo>
                  <a:pt x="9203" y="17041"/>
                </a:moveTo>
                <a:cubicBezTo>
                  <a:pt x="9073" y="17145"/>
                  <a:pt x="9027" y="17226"/>
                  <a:pt x="9004" y="17388"/>
                </a:cubicBezTo>
                <a:cubicBezTo>
                  <a:pt x="9205" y="17359"/>
                  <a:pt x="9222" y="17345"/>
                  <a:pt x="9351" y="17190"/>
                </a:cubicBezTo>
                <a:cubicBezTo>
                  <a:pt x="9265" y="17027"/>
                  <a:pt x="9243" y="17040"/>
                  <a:pt x="9054" y="16991"/>
                </a:cubicBezTo>
              </a:path>
              <a:path w="2656" h="5557">
                <a:moveTo>
                  <a:pt x="8285" y="16892"/>
                </a:moveTo>
                <a:lnTo>
                  <a:pt x="8285" y="16892"/>
                </a:lnTo>
              </a:path>
              <a:path w="2656" h="5557">
                <a:moveTo>
                  <a:pt x="6821" y="12948"/>
                </a:moveTo>
                <a:cubicBezTo>
                  <a:pt x="7038" y="13126"/>
                  <a:pt x="7211" y="13117"/>
                  <a:pt x="7491" y="13122"/>
                </a:cubicBezTo>
                <a:cubicBezTo>
                  <a:pt x="7975" y="13131"/>
                  <a:pt x="8485" y="13078"/>
                  <a:pt x="8930" y="12874"/>
                </a:cubicBezTo>
                <a:cubicBezTo>
                  <a:pt x="9188" y="12756"/>
                  <a:pt x="9577" y="12502"/>
                  <a:pt x="9376" y="12179"/>
                </a:cubicBezTo>
                <a:cubicBezTo>
                  <a:pt x="9132" y="11787"/>
                  <a:pt x="8463" y="11813"/>
                  <a:pt x="8086" y="11881"/>
                </a:cubicBezTo>
                <a:cubicBezTo>
                  <a:pt x="7557" y="11976"/>
                  <a:pt x="6965" y="12296"/>
                  <a:pt x="6796" y="12849"/>
                </a:cubicBezTo>
                <a:cubicBezTo>
                  <a:pt x="6804" y="12932"/>
                  <a:pt x="6813" y="13014"/>
                  <a:pt x="6821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523880" y="2895480"/>
          <a:ext cx="3810240" cy="32734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/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045120" y="2867040"/>
            <a:ext cx="972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6818" y="7962"/>
                </a:moveTo>
                <a:cubicBezTo>
                  <a:pt x="16810" y="7970"/>
                  <a:pt x="16801" y="7979"/>
                  <a:pt x="16793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9040" y="3500280"/>
            <a:ext cx="322200" cy="223920"/>
          </a:xfrm>
          <a:custGeom>
            <a:avLst/>
            <a:gdLst/>
            <a:ahLst/>
            <a:rect l="l" t="t" r="r" b="b"/>
            <a:pathLst>
              <a:path w="894" h="622">
                <a:moveTo>
                  <a:pt x="11013" y="10244"/>
                </a:moveTo>
                <a:cubicBezTo>
                  <a:pt x="10948" y="10288"/>
                  <a:pt x="10929" y="10294"/>
                  <a:pt x="10914" y="10344"/>
                </a:cubicBezTo>
                <a:cubicBezTo>
                  <a:pt x="11079" y="10295"/>
                  <a:pt x="11122" y="10326"/>
                  <a:pt x="10988" y="10220"/>
                </a:cubicBezTo>
              </a:path>
              <a:path w="894" h="622">
                <a:moveTo>
                  <a:pt x="11509" y="9723"/>
                </a:moveTo>
                <a:cubicBezTo>
                  <a:pt x="11691" y="9745"/>
                  <a:pt x="11915" y="9836"/>
                  <a:pt x="11757" y="10071"/>
                </a:cubicBezTo>
                <a:cubicBezTo>
                  <a:pt x="11659" y="10218"/>
                  <a:pt x="11514" y="10225"/>
                  <a:pt x="11361" y="10244"/>
                </a:cubicBezTo>
                <a:cubicBezTo>
                  <a:pt x="11494" y="10089"/>
                  <a:pt x="11574" y="10051"/>
                  <a:pt x="11733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3929040"/>
            <a:ext cx="938160" cy="1554120"/>
          </a:xfrm>
          <a:custGeom>
            <a:avLst/>
            <a:gdLst/>
            <a:ahLst/>
            <a:rect l="l" t="t" r="r" b="b"/>
            <a:pathLst>
              <a:path w="2606" h="4317">
                <a:moveTo>
                  <a:pt x="10939" y="11807"/>
                </a:moveTo>
                <a:cubicBezTo>
                  <a:pt x="10939" y="11959"/>
                  <a:pt x="10908" y="11913"/>
                  <a:pt x="11038" y="11956"/>
                </a:cubicBezTo>
                <a:cubicBezTo>
                  <a:pt x="11038" y="11878"/>
                  <a:pt x="11007" y="11874"/>
                  <a:pt x="10939" y="11857"/>
                </a:cubicBezTo>
              </a:path>
              <a:path w="2606" h="4317">
                <a:moveTo>
                  <a:pt x="11584" y="11212"/>
                </a:moveTo>
                <a:cubicBezTo>
                  <a:pt x="11371" y="11310"/>
                  <a:pt x="11361" y="11478"/>
                  <a:pt x="11361" y="11708"/>
                </a:cubicBezTo>
                <a:cubicBezTo>
                  <a:pt x="11568" y="11773"/>
                  <a:pt x="11817" y="11787"/>
                  <a:pt x="11733" y="11460"/>
                </a:cubicBezTo>
                <a:cubicBezTo>
                  <a:pt x="11640" y="11299"/>
                  <a:pt x="11621" y="11246"/>
                  <a:pt x="11485" y="11237"/>
                </a:cubicBezTo>
              </a:path>
              <a:path w="2606" h="4317">
                <a:moveTo>
                  <a:pt x="11931" y="11162"/>
                </a:moveTo>
                <a:cubicBezTo>
                  <a:pt x="11925" y="11250"/>
                  <a:pt x="11853" y="11435"/>
                  <a:pt x="12005" y="11435"/>
                </a:cubicBezTo>
                <a:cubicBezTo>
                  <a:pt x="12063" y="11427"/>
                  <a:pt x="12121" y="11418"/>
                  <a:pt x="12179" y="11410"/>
                </a:cubicBezTo>
              </a:path>
              <a:path w="2606" h="4317">
                <a:moveTo>
                  <a:pt x="12303" y="10914"/>
                </a:moveTo>
                <a:cubicBezTo>
                  <a:pt x="12255" y="11154"/>
                  <a:pt x="12223" y="11394"/>
                  <a:pt x="12179" y="11633"/>
                </a:cubicBezTo>
              </a:path>
              <a:path w="2606" h="4317">
                <a:moveTo>
                  <a:pt x="10517" y="13221"/>
                </a:moveTo>
                <a:cubicBezTo>
                  <a:pt x="10614" y="13200"/>
                  <a:pt x="10755" y="13180"/>
                  <a:pt x="10616" y="13320"/>
                </a:cubicBezTo>
                <a:cubicBezTo>
                  <a:pt x="10583" y="13345"/>
                  <a:pt x="10550" y="13370"/>
                  <a:pt x="10517" y="13395"/>
                </a:cubicBezTo>
                <a:cubicBezTo>
                  <a:pt x="10661" y="13376"/>
                  <a:pt x="10814" y="13422"/>
                  <a:pt x="10716" y="13618"/>
                </a:cubicBezTo>
                <a:cubicBezTo>
                  <a:pt x="10650" y="13750"/>
                  <a:pt x="10527" y="13704"/>
                  <a:pt x="10418" y="13692"/>
                </a:cubicBezTo>
              </a:path>
              <a:path w="2606" h="4317">
                <a:moveTo>
                  <a:pt x="10269" y="13965"/>
                </a:moveTo>
                <a:cubicBezTo>
                  <a:pt x="10317" y="13701"/>
                  <a:pt x="10322" y="13525"/>
                  <a:pt x="10220" y="13271"/>
                </a:cubicBezTo>
                <a:cubicBezTo>
                  <a:pt x="10178" y="13188"/>
                  <a:pt x="10170" y="13171"/>
                  <a:pt x="10145" y="13122"/>
                </a:cubicBezTo>
                <a:cubicBezTo>
                  <a:pt x="10410" y="13103"/>
                  <a:pt x="10675" y="13055"/>
                  <a:pt x="10939" y="13022"/>
                </a:cubicBezTo>
                <a:cubicBezTo>
                  <a:pt x="11075" y="13005"/>
                  <a:pt x="11199" y="12998"/>
                  <a:pt x="11336" y="12998"/>
                </a:cubicBezTo>
              </a:path>
              <a:path w="2606" h="4317">
                <a:moveTo>
                  <a:pt x="10021" y="13469"/>
                </a:moveTo>
                <a:cubicBezTo>
                  <a:pt x="10042" y="13368"/>
                  <a:pt x="9963" y="13279"/>
                  <a:pt x="9847" y="13370"/>
                </a:cubicBezTo>
                <a:cubicBezTo>
                  <a:pt x="9705" y="13481"/>
                  <a:pt x="9760" y="13559"/>
                  <a:pt x="9823" y="13667"/>
                </a:cubicBezTo>
                <a:cubicBezTo>
                  <a:pt x="9949" y="13608"/>
                  <a:pt x="10012" y="13556"/>
                  <a:pt x="10071" y="13419"/>
                </a:cubicBezTo>
                <a:cubicBezTo>
                  <a:pt x="10071" y="13572"/>
                  <a:pt x="10063" y="13714"/>
                  <a:pt x="10046" y="13866"/>
                </a:cubicBezTo>
              </a:path>
              <a:path w="2606" h="4317">
                <a:moveTo>
                  <a:pt x="11063" y="13593"/>
                </a:moveTo>
                <a:cubicBezTo>
                  <a:pt x="11011" y="13593"/>
                  <a:pt x="10993" y="13595"/>
                  <a:pt x="10988" y="13643"/>
                </a:cubicBezTo>
              </a:path>
              <a:path w="2606" h="4317">
                <a:moveTo>
                  <a:pt x="10939" y="12923"/>
                </a:moveTo>
                <a:cubicBezTo>
                  <a:pt x="10931" y="12907"/>
                  <a:pt x="10922" y="12890"/>
                  <a:pt x="10914" y="12874"/>
                </a:cubicBezTo>
              </a:path>
              <a:path w="2606" h="4317">
                <a:moveTo>
                  <a:pt x="11311" y="13196"/>
                </a:moveTo>
                <a:cubicBezTo>
                  <a:pt x="11191" y="13286"/>
                  <a:pt x="11175" y="13368"/>
                  <a:pt x="11212" y="13519"/>
                </a:cubicBezTo>
                <a:cubicBezTo>
                  <a:pt x="11237" y="13568"/>
                  <a:pt x="11245" y="13584"/>
                  <a:pt x="11286" y="13593"/>
                </a:cubicBezTo>
                <a:cubicBezTo>
                  <a:pt x="11385" y="13535"/>
                  <a:pt x="11516" y="13431"/>
                  <a:pt x="11410" y="13295"/>
                </a:cubicBezTo>
                <a:cubicBezTo>
                  <a:pt x="11339" y="13248"/>
                  <a:pt x="11317" y="13232"/>
                  <a:pt x="11261" y="13221"/>
                </a:cubicBezTo>
              </a:path>
              <a:path w="2606" h="4317">
                <a:moveTo>
                  <a:pt x="10988" y="13047"/>
                </a:moveTo>
                <a:cubicBezTo>
                  <a:pt x="11147" y="13029"/>
                  <a:pt x="11299" y="12980"/>
                  <a:pt x="11460" y="12948"/>
                </a:cubicBezTo>
              </a:path>
              <a:path w="2606" h="4317">
                <a:moveTo>
                  <a:pt x="10815" y="12898"/>
                </a:moveTo>
                <a:cubicBezTo>
                  <a:pt x="10881" y="12938"/>
                  <a:pt x="10866" y="12931"/>
                  <a:pt x="10914" y="12874"/>
                </a:cubicBezTo>
                <a:cubicBezTo>
                  <a:pt x="10743" y="12922"/>
                  <a:pt x="10947" y="12974"/>
                  <a:pt x="10964" y="12923"/>
                </a:cubicBezTo>
                <a:cubicBezTo>
                  <a:pt x="10998" y="12821"/>
                  <a:pt x="10876" y="12914"/>
                  <a:pt x="10864" y="12923"/>
                </a:cubicBezTo>
              </a:path>
              <a:path w="2606" h="4317">
                <a:moveTo>
                  <a:pt x="11112" y="12576"/>
                </a:moveTo>
                <a:cubicBezTo>
                  <a:pt x="11219" y="12549"/>
                  <a:pt x="11343" y="12527"/>
                  <a:pt x="11237" y="12675"/>
                </a:cubicBezTo>
                <a:cubicBezTo>
                  <a:pt x="11220" y="12692"/>
                  <a:pt x="11204" y="12708"/>
                  <a:pt x="11187" y="12725"/>
                </a:cubicBezTo>
                <a:cubicBezTo>
                  <a:pt x="11249" y="12704"/>
                  <a:pt x="11466" y="12650"/>
                  <a:pt x="11385" y="12824"/>
                </a:cubicBezTo>
                <a:cubicBezTo>
                  <a:pt x="11350" y="12900"/>
                  <a:pt x="11277" y="12874"/>
                  <a:pt x="11212" y="12874"/>
                </a:cubicBezTo>
              </a:path>
              <a:path w="2606" h="4317">
                <a:moveTo>
                  <a:pt x="10740" y="13791"/>
                </a:moveTo>
                <a:cubicBezTo>
                  <a:pt x="10773" y="13775"/>
                  <a:pt x="10807" y="13758"/>
                  <a:pt x="10840" y="13742"/>
                </a:cubicBezTo>
                <a:cubicBezTo>
                  <a:pt x="10890" y="13905"/>
                  <a:pt x="10897" y="13959"/>
                  <a:pt x="10716" y="13990"/>
                </a:cubicBezTo>
                <a:cubicBezTo>
                  <a:pt x="10791" y="13913"/>
                  <a:pt x="10892" y="13940"/>
                  <a:pt x="11013" y="13940"/>
                </a:cubicBezTo>
              </a:path>
              <a:path w="2606" h="4317">
                <a:moveTo>
                  <a:pt x="11187" y="13767"/>
                </a:moveTo>
                <a:cubicBezTo>
                  <a:pt x="11271" y="13730"/>
                  <a:pt x="11351" y="13701"/>
                  <a:pt x="11435" y="13667"/>
                </a:cubicBezTo>
                <a:cubicBezTo>
                  <a:pt x="11450" y="13744"/>
                  <a:pt x="11442" y="13807"/>
                  <a:pt x="11435" y="13891"/>
                </a:cubicBezTo>
              </a:path>
              <a:path w="2606" h="4317">
                <a:moveTo>
                  <a:pt x="11137" y="14089"/>
                </a:moveTo>
                <a:cubicBezTo>
                  <a:pt x="11336" y="14015"/>
                  <a:pt x="11402" y="13990"/>
                  <a:pt x="11534" y="13940"/>
                </a:cubicBezTo>
              </a:path>
              <a:path w="2606" h="4317">
                <a:moveTo>
                  <a:pt x="11633" y="13940"/>
                </a:moveTo>
                <a:cubicBezTo>
                  <a:pt x="11774" y="13913"/>
                  <a:pt x="11901" y="13879"/>
                  <a:pt x="11733" y="14015"/>
                </a:cubicBezTo>
                <a:cubicBezTo>
                  <a:pt x="11834" y="14034"/>
                  <a:pt x="11854" y="14032"/>
                  <a:pt x="11906" y="14064"/>
                </a:cubicBezTo>
                <a:cubicBezTo>
                  <a:pt x="11857" y="14143"/>
                  <a:pt x="11843" y="14149"/>
                  <a:pt x="11757" y="14188"/>
                </a:cubicBezTo>
              </a:path>
              <a:path w="2606" h="4317">
                <a:moveTo>
                  <a:pt x="12030" y="13742"/>
                </a:moveTo>
                <a:cubicBezTo>
                  <a:pt x="12030" y="13809"/>
                  <a:pt x="12026" y="13843"/>
                  <a:pt x="12005" y="13891"/>
                </a:cubicBezTo>
                <a:cubicBezTo>
                  <a:pt x="12160" y="13899"/>
                  <a:pt x="12286" y="13889"/>
                  <a:pt x="12154" y="13742"/>
                </a:cubicBezTo>
              </a:path>
              <a:path w="2606" h="4317">
                <a:moveTo>
                  <a:pt x="11534" y="12626"/>
                </a:moveTo>
                <a:cubicBezTo>
                  <a:pt x="11622" y="12581"/>
                  <a:pt x="11643" y="12565"/>
                  <a:pt x="11708" y="12576"/>
                </a:cubicBezTo>
                <a:cubicBezTo>
                  <a:pt x="11660" y="12861"/>
                  <a:pt x="11740" y="12583"/>
                  <a:pt x="11857" y="12750"/>
                </a:cubicBezTo>
                <a:cubicBezTo>
                  <a:pt x="11983" y="12931"/>
                  <a:pt x="11677" y="12932"/>
                  <a:pt x="11609" y="12923"/>
                </a:cubicBezTo>
              </a:path>
              <a:path w="2606" h="4317">
                <a:moveTo>
                  <a:pt x="11584" y="12402"/>
                </a:moveTo>
                <a:cubicBezTo>
                  <a:pt x="11644" y="12402"/>
                  <a:pt x="11846" y="12355"/>
                  <a:pt x="11733" y="12402"/>
                </a:cubicBezTo>
                <a:cubicBezTo>
                  <a:pt x="11555" y="12476"/>
                  <a:pt x="11432" y="12486"/>
                  <a:pt x="11708" y="12427"/>
                </a:cubicBezTo>
                <a:cubicBezTo>
                  <a:pt x="11741" y="12419"/>
                  <a:pt x="11774" y="12410"/>
                  <a:pt x="11807" y="12402"/>
                </a:cubicBezTo>
                <a:cubicBezTo>
                  <a:pt x="11757" y="12412"/>
                  <a:pt x="11407" y="12452"/>
                  <a:pt x="11534" y="12452"/>
                </a:cubicBezTo>
                <a:cubicBezTo>
                  <a:pt x="11667" y="12452"/>
                  <a:pt x="11702" y="12456"/>
                  <a:pt x="11782" y="12427"/>
                </a:cubicBezTo>
              </a:path>
              <a:path w="2606" h="4317">
                <a:moveTo>
                  <a:pt x="10542" y="15205"/>
                </a:moveTo>
                <a:cubicBezTo>
                  <a:pt x="10624" y="15226"/>
                  <a:pt x="10657" y="15251"/>
                  <a:pt x="10641" y="15180"/>
                </a:cubicBezTo>
                <a:cubicBezTo>
                  <a:pt x="10578" y="15118"/>
                  <a:pt x="10583" y="15126"/>
                  <a:pt x="10492" y="15156"/>
                </a:cubicBezTo>
              </a:path>
              <a:path w="2606" h="4317">
                <a:moveTo>
                  <a:pt x="11088" y="14660"/>
                </a:moveTo>
                <a:cubicBezTo>
                  <a:pt x="11069" y="14779"/>
                  <a:pt x="10881" y="15129"/>
                  <a:pt x="10988" y="15230"/>
                </a:cubicBezTo>
                <a:cubicBezTo>
                  <a:pt x="11121" y="15356"/>
                  <a:pt x="11274" y="15060"/>
                  <a:pt x="11311" y="15007"/>
                </a:cubicBezTo>
                <a:cubicBezTo>
                  <a:pt x="11311" y="14922"/>
                  <a:pt x="11137" y="15106"/>
                  <a:pt x="11137" y="15180"/>
                </a:cubicBezTo>
              </a:path>
              <a:path w="2606" h="4317">
                <a:moveTo>
                  <a:pt x="11782" y="14610"/>
                </a:moveTo>
                <a:cubicBezTo>
                  <a:pt x="11603" y="14620"/>
                  <a:pt x="11612" y="14600"/>
                  <a:pt x="11509" y="14734"/>
                </a:cubicBezTo>
                <a:cubicBezTo>
                  <a:pt x="11555" y="14838"/>
                  <a:pt x="11792" y="15039"/>
                  <a:pt x="11733" y="15156"/>
                </a:cubicBezTo>
                <a:cubicBezTo>
                  <a:pt x="11708" y="15164"/>
                  <a:pt x="11683" y="15172"/>
                  <a:pt x="11658" y="15180"/>
                </a:cubicBezTo>
                <a:cubicBezTo>
                  <a:pt x="11526" y="15019"/>
                  <a:pt x="11620" y="14890"/>
                  <a:pt x="11733" y="14709"/>
                </a:cubicBezTo>
                <a:cubicBezTo>
                  <a:pt x="11741" y="14701"/>
                  <a:pt x="11749" y="14692"/>
                  <a:pt x="11757" y="14684"/>
                </a:cubicBezTo>
              </a:path>
              <a:path w="2606" h="4317">
                <a:moveTo>
                  <a:pt x="12080" y="14560"/>
                </a:moveTo>
                <a:cubicBezTo>
                  <a:pt x="12121" y="14556"/>
                  <a:pt x="12392" y="14476"/>
                  <a:pt x="12303" y="14610"/>
                </a:cubicBezTo>
                <a:cubicBezTo>
                  <a:pt x="12198" y="14688"/>
                  <a:pt x="12159" y="14717"/>
                  <a:pt x="12080" y="14759"/>
                </a:cubicBezTo>
                <a:cubicBezTo>
                  <a:pt x="12072" y="14759"/>
                  <a:pt x="12063" y="14759"/>
                  <a:pt x="12055" y="14759"/>
                </a:cubicBezTo>
                <a:cubicBezTo>
                  <a:pt x="12156" y="14731"/>
                  <a:pt x="12445" y="14757"/>
                  <a:pt x="12353" y="14957"/>
                </a:cubicBezTo>
                <a:cubicBezTo>
                  <a:pt x="12273" y="15131"/>
                  <a:pt x="12043" y="15087"/>
                  <a:pt x="11906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48200" y="4643280"/>
            <a:ext cx="1233720" cy="1758960"/>
          </a:xfrm>
          <a:custGeom>
            <a:avLst/>
            <a:gdLst/>
            <a:ahLst/>
            <a:rect l="l" t="t" r="r" b="b"/>
            <a:pathLst>
              <a:path w="3424" h="4888">
                <a:moveTo>
                  <a:pt x="17090" y="14486"/>
                </a:moveTo>
                <a:cubicBezTo>
                  <a:pt x="17214" y="14474"/>
                  <a:pt x="17336" y="14444"/>
                  <a:pt x="17462" y="14436"/>
                </a:cubicBezTo>
                <a:cubicBezTo>
                  <a:pt x="17480" y="14556"/>
                  <a:pt x="17339" y="14722"/>
                  <a:pt x="17289" y="14858"/>
                </a:cubicBezTo>
              </a:path>
              <a:path w="3424" h="4888">
                <a:moveTo>
                  <a:pt x="16966" y="15156"/>
                </a:moveTo>
                <a:cubicBezTo>
                  <a:pt x="16981" y="14934"/>
                  <a:pt x="16983" y="14756"/>
                  <a:pt x="16917" y="14536"/>
                </a:cubicBezTo>
                <a:cubicBezTo>
                  <a:pt x="16874" y="14391"/>
                  <a:pt x="16886" y="14419"/>
                  <a:pt x="16892" y="14312"/>
                </a:cubicBezTo>
                <a:cubicBezTo>
                  <a:pt x="17217" y="14237"/>
                  <a:pt x="17526" y="14219"/>
                  <a:pt x="17859" y="14188"/>
                </a:cubicBezTo>
                <a:cubicBezTo>
                  <a:pt x="18234" y="14153"/>
                  <a:pt x="18599" y="14114"/>
                  <a:pt x="18976" y="14114"/>
                </a:cubicBezTo>
              </a:path>
              <a:path w="3424" h="4888">
                <a:moveTo>
                  <a:pt x="16346" y="14660"/>
                </a:moveTo>
                <a:cubicBezTo>
                  <a:pt x="16299" y="14826"/>
                  <a:pt x="16285" y="14876"/>
                  <a:pt x="16247" y="14982"/>
                </a:cubicBezTo>
              </a:path>
              <a:path w="3424" h="4888">
                <a:moveTo>
                  <a:pt x="16495" y="14635"/>
                </a:moveTo>
                <a:cubicBezTo>
                  <a:pt x="16613" y="14615"/>
                  <a:pt x="16648" y="14579"/>
                  <a:pt x="16669" y="14660"/>
                </a:cubicBezTo>
                <a:cubicBezTo>
                  <a:pt x="16615" y="14767"/>
                  <a:pt x="16553" y="14843"/>
                  <a:pt x="16470" y="14932"/>
                </a:cubicBezTo>
                <a:cubicBezTo>
                  <a:pt x="16631" y="14957"/>
                  <a:pt x="16772" y="14915"/>
                  <a:pt x="16942" y="14883"/>
                </a:cubicBezTo>
              </a:path>
              <a:path w="3424" h="4888">
                <a:moveTo>
                  <a:pt x="17760" y="14660"/>
                </a:moveTo>
                <a:cubicBezTo>
                  <a:pt x="17670" y="14724"/>
                  <a:pt x="17676" y="14750"/>
                  <a:pt x="17785" y="14709"/>
                </a:cubicBezTo>
              </a:path>
              <a:path w="3424" h="4888">
                <a:moveTo>
                  <a:pt x="17760" y="13965"/>
                </a:moveTo>
                <a:cubicBezTo>
                  <a:pt x="17701" y="14113"/>
                  <a:pt x="17782" y="14058"/>
                  <a:pt x="17735" y="13965"/>
                </a:cubicBezTo>
              </a:path>
              <a:path w="3424" h="4888">
                <a:moveTo>
                  <a:pt x="18256" y="14362"/>
                </a:moveTo>
                <a:cubicBezTo>
                  <a:pt x="18135" y="14362"/>
                  <a:pt x="18015" y="14470"/>
                  <a:pt x="18008" y="14610"/>
                </a:cubicBezTo>
                <a:cubicBezTo>
                  <a:pt x="18025" y="14643"/>
                  <a:pt x="18041" y="14676"/>
                  <a:pt x="18058" y="14709"/>
                </a:cubicBezTo>
                <a:cubicBezTo>
                  <a:pt x="18301" y="14648"/>
                  <a:pt x="18289" y="14554"/>
                  <a:pt x="18207" y="14337"/>
                </a:cubicBezTo>
              </a:path>
              <a:path w="3424" h="4888">
                <a:moveTo>
                  <a:pt x="18058" y="13494"/>
                </a:moveTo>
                <a:cubicBezTo>
                  <a:pt x="18028" y="13564"/>
                  <a:pt x="17875" y="13770"/>
                  <a:pt x="17983" y="13841"/>
                </a:cubicBezTo>
                <a:cubicBezTo>
                  <a:pt x="18110" y="13924"/>
                  <a:pt x="18189" y="13815"/>
                  <a:pt x="18231" y="13717"/>
                </a:cubicBezTo>
                <a:cubicBezTo>
                  <a:pt x="18152" y="13717"/>
                  <a:pt x="18124" y="13721"/>
                  <a:pt x="18107" y="13791"/>
                </a:cubicBezTo>
              </a:path>
              <a:path w="3424" h="4888">
                <a:moveTo>
                  <a:pt x="17314" y="14982"/>
                </a:moveTo>
                <a:cubicBezTo>
                  <a:pt x="17280" y="15084"/>
                  <a:pt x="17270" y="15173"/>
                  <a:pt x="17264" y="15280"/>
                </a:cubicBezTo>
                <a:cubicBezTo>
                  <a:pt x="17411" y="15316"/>
                  <a:pt x="17483" y="15249"/>
                  <a:pt x="17562" y="15131"/>
                </a:cubicBezTo>
                <a:cubicBezTo>
                  <a:pt x="17446" y="15131"/>
                  <a:pt x="17320" y="15169"/>
                  <a:pt x="17413" y="15280"/>
                </a:cubicBezTo>
              </a:path>
              <a:path w="3424" h="4888">
                <a:moveTo>
                  <a:pt x="18107" y="14982"/>
                </a:moveTo>
                <a:cubicBezTo>
                  <a:pt x="17988" y="15054"/>
                  <a:pt x="17966" y="15053"/>
                  <a:pt x="17934" y="15180"/>
                </a:cubicBezTo>
                <a:cubicBezTo>
                  <a:pt x="18041" y="15167"/>
                  <a:pt x="18276" y="15110"/>
                  <a:pt x="18107" y="14957"/>
                </a:cubicBezTo>
                <a:cubicBezTo>
                  <a:pt x="18082" y="14949"/>
                  <a:pt x="18058" y="14940"/>
                  <a:pt x="18033" y="14932"/>
                </a:cubicBezTo>
              </a:path>
              <a:path w="3424" h="4888">
                <a:moveTo>
                  <a:pt x="17041" y="15553"/>
                </a:moveTo>
                <a:cubicBezTo>
                  <a:pt x="17349" y="15414"/>
                  <a:pt x="17656" y="15421"/>
                  <a:pt x="17983" y="15354"/>
                </a:cubicBezTo>
                <a:cubicBezTo>
                  <a:pt x="18098" y="15315"/>
                  <a:pt x="18112" y="15299"/>
                  <a:pt x="18182" y="15304"/>
                </a:cubicBezTo>
              </a:path>
              <a:path w="3424" h="4888">
                <a:moveTo>
                  <a:pt x="17587" y="15528"/>
                </a:moveTo>
                <a:cubicBezTo>
                  <a:pt x="17541" y="15630"/>
                  <a:pt x="17505" y="15710"/>
                  <a:pt x="17438" y="15801"/>
                </a:cubicBezTo>
              </a:path>
              <a:path w="3424" h="4888">
                <a:moveTo>
                  <a:pt x="18058" y="15453"/>
                </a:moveTo>
                <a:cubicBezTo>
                  <a:pt x="17977" y="15521"/>
                  <a:pt x="17939" y="15552"/>
                  <a:pt x="17909" y="15652"/>
                </a:cubicBezTo>
                <a:cubicBezTo>
                  <a:pt x="17997" y="15661"/>
                  <a:pt x="18140" y="15632"/>
                  <a:pt x="18058" y="15503"/>
                </a:cubicBezTo>
                <a:cubicBezTo>
                  <a:pt x="18041" y="15486"/>
                  <a:pt x="18025" y="15470"/>
                  <a:pt x="18008" y="15453"/>
                </a:cubicBezTo>
              </a:path>
              <a:path w="3424" h="4888">
                <a:moveTo>
                  <a:pt x="18604" y="15354"/>
                </a:moveTo>
                <a:cubicBezTo>
                  <a:pt x="18488" y="15456"/>
                  <a:pt x="18440" y="15522"/>
                  <a:pt x="18504" y="15652"/>
                </a:cubicBezTo>
                <a:cubicBezTo>
                  <a:pt x="18727" y="15622"/>
                  <a:pt x="18688" y="15554"/>
                  <a:pt x="18628" y="15354"/>
                </a:cubicBezTo>
              </a:path>
              <a:path w="3424" h="4888">
                <a:moveTo>
                  <a:pt x="18703" y="14387"/>
                </a:moveTo>
                <a:cubicBezTo>
                  <a:pt x="18517" y="14424"/>
                  <a:pt x="18490" y="14480"/>
                  <a:pt x="18554" y="14660"/>
                </a:cubicBezTo>
                <a:cubicBezTo>
                  <a:pt x="18704" y="14620"/>
                  <a:pt x="18695" y="14616"/>
                  <a:pt x="18752" y="14461"/>
                </a:cubicBezTo>
              </a:path>
              <a:path w="3424" h="4888">
                <a:moveTo>
                  <a:pt x="18579" y="14908"/>
                </a:moveTo>
                <a:cubicBezTo>
                  <a:pt x="18552" y="15001"/>
                  <a:pt x="18536" y="15084"/>
                  <a:pt x="18529" y="15180"/>
                </a:cubicBezTo>
              </a:path>
              <a:path w="3424" h="4888">
                <a:moveTo>
                  <a:pt x="18430" y="15081"/>
                </a:moveTo>
                <a:cubicBezTo>
                  <a:pt x="18471" y="15150"/>
                  <a:pt x="18555" y="15247"/>
                  <a:pt x="18653" y="15156"/>
                </a:cubicBezTo>
                <a:cubicBezTo>
                  <a:pt x="18683" y="15096"/>
                  <a:pt x="18698" y="15070"/>
                  <a:pt x="18728" y="15032"/>
                </a:cubicBezTo>
              </a:path>
              <a:path w="3424" h="4888">
                <a:moveTo>
                  <a:pt x="18703" y="13419"/>
                </a:moveTo>
                <a:cubicBezTo>
                  <a:pt x="18581" y="13395"/>
                  <a:pt x="18579" y="13417"/>
                  <a:pt x="18479" y="13494"/>
                </a:cubicBezTo>
                <a:cubicBezTo>
                  <a:pt x="18561" y="13621"/>
                  <a:pt x="18728" y="13596"/>
                  <a:pt x="18802" y="13717"/>
                </a:cubicBezTo>
                <a:cubicBezTo>
                  <a:pt x="18882" y="13848"/>
                  <a:pt x="18766" y="13854"/>
                  <a:pt x="18678" y="13891"/>
                </a:cubicBezTo>
                <a:cubicBezTo>
                  <a:pt x="18649" y="13734"/>
                  <a:pt x="18728" y="13600"/>
                  <a:pt x="18777" y="13444"/>
                </a:cubicBezTo>
              </a:path>
              <a:path w="3424" h="4888">
                <a:moveTo>
                  <a:pt x="18604" y="15850"/>
                </a:moveTo>
                <a:cubicBezTo>
                  <a:pt x="18541" y="15961"/>
                  <a:pt x="18469" y="16046"/>
                  <a:pt x="18455" y="16173"/>
                </a:cubicBezTo>
                <a:cubicBezTo>
                  <a:pt x="18620" y="16198"/>
                  <a:pt x="18670" y="16152"/>
                  <a:pt x="18777" y="16024"/>
                </a:cubicBezTo>
                <a:cubicBezTo>
                  <a:pt x="18691" y="16010"/>
                  <a:pt x="18666" y="16072"/>
                  <a:pt x="18604" y="16148"/>
                </a:cubicBezTo>
              </a:path>
              <a:path w="3424" h="4888">
                <a:moveTo>
                  <a:pt x="18256" y="15974"/>
                </a:moveTo>
                <a:cubicBezTo>
                  <a:pt x="18137" y="15959"/>
                  <a:pt x="18060" y="15908"/>
                  <a:pt x="17959" y="16024"/>
                </a:cubicBezTo>
                <a:cubicBezTo>
                  <a:pt x="17951" y="16049"/>
                  <a:pt x="17942" y="16073"/>
                  <a:pt x="17934" y="16098"/>
                </a:cubicBezTo>
                <a:cubicBezTo>
                  <a:pt x="18063" y="16107"/>
                  <a:pt x="18143" y="16102"/>
                  <a:pt x="18207" y="15974"/>
                </a:cubicBezTo>
                <a:cubicBezTo>
                  <a:pt x="18207" y="16065"/>
                  <a:pt x="18207" y="16156"/>
                  <a:pt x="18207" y="16247"/>
                </a:cubicBezTo>
              </a:path>
              <a:path w="3424" h="4888">
                <a:moveTo>
                  <a:pt x="17785" y="16421"/>
                </a:moveTo>
                <a:cubicBezTo>
                  <a:pt x="18134" y="16394"/>
                  <a:pt x="18482" y="16318"/>
                  <a:pt x="18827" y="16247"/>
                </a:cubicBezTo>
                <a:cubicBezTo>
                  <a:pt x="18860" y="16239"/>
                  <a:pt x="18893" y="16230"/>
                  <a:pt x="18926" y="16222"/>
                </a:cubicBezTo>
              </a:path>
              <a:path w="3424" h="4888">
                <a:moveTo>
                  <a:pt x="18554" y="16446"/>
                </a:moveTo>
                <a:cubicBezTo>
                  <a:pt x="18568" y="16516"/>
                  <a:pt x="18562" y="16568"/>
                  <a:pt x="18554" y="16644"/>
                </a:cubicBezTo>
                <a:cubicBezTo>
                  <a:pt x="18707" y="16644"/>
                  <a:pt x="18739" y="16628"/>
                  <a:pt x="18876" y="16570"/>
                </a:cubicBezTo>
              </a:path>
              <a:path w="3424" h="4888">
                <a:moveTo>
                  <a:pt x="18876" y="16446"/>
                </a:moveTo>
                <a:cubicBezTo>
                  <a:pt x="18826" y="16553"/>
                  <a:pt x="18778" y="16661"/>
                  <a:pt x="18728" y="16768"/>
                </a:cubicBezTo>
              </a:path>
              <a:path w="3424" h="4888">
                <a:moveTo>
                  <a:pt x="19100" y="16446"/>
                </a:moveTo>
                <a:cubicBezTo>
                  <a:pt x="19034" y="16533"/>
                  <a:pt x="19014" y="16551"/>
                  <a:pt x="19000" y="16619"/>
                </a:cubicBezTo>
                <a:cubicBezTo>
                  <a:pt x="19153" y="16665"/>
                  <a:pt x="19258" y="16610"/>
                  <a:pt x="19224" y="16421"/>
                </a:cubicBezTo>
                <a:cubicBezTo>
                  <a:pt x="19207" y="16388"/>
                  <a:pt x="19191" y="16354"/>
                  <a:pt x="19174" y="16321"/>
                </a:cubicBezTo>
              </a:path>
              <a:path w="3424" h="4888">
                <a:moveTo>
                  <a:pt x="19199" y="14238"/>
                </a:moveTo>
                <a:cubicBezTo>
                  <a:pt x="19065" y="14289"/>
                  <a:pt x="19037" y="14354"/>
                  <a:pt x="18951" y="14486"/>
                </a:cubicBezTo>
                <a:cubicBezTo>
                  <a:pt x="19043" y="14551"/>
                  <a:pt x="19174" y="14625"/>
                  <a:pt x="19149" y="14436"/>
                </a:cubicBezTo>
                <a:cubicBezTo>
                  <a:pt x="19141" y="14420"/>
                  <a:pt x="19132" y="14403"/>
                  <a:pt x="19124" y="14387"/>
                </a:cubicBezTo>
              </a:path>
              <a:path w="3424" h="4888">
                <a:moveTo>
                  <a:pt x="19124" y="14759"/>
                </a:moveTo>
                <a:cubicBezTo>
                  <a:pt x="19124" y="15058"/>
                  <a:pt x="19105" y="15354"/>
                  <a:pt x="19100" y="15652"/>
                </a:cubicBezTo>
                <a:cubicBezTo>
                  <a:pt x="19100" y="15693"/>
                  <a:pt x="19100" y="15735"/>
                  <a:pt x="19100" y="15776"/>
                </a:cubicBezTo>
              </a:path>
              <a:path w="3424" h="4888">
                <a:moveTo>
                  <a:pt x="19050" y="15701"/>
                </a:moveTo>
                <a:cubicBezTo>
                  <a:pt x="19059" y="15816"/>
                  <a:pt x="19082" y="15916"/>
                  <a:pt x="19124" y="16024"/>
                </a:cubicBezTo>
                <a:cubicBezTo>
                  <a:pt x="19133" y="15884"/>
                  <a:pt x="19141" y="15745"/>
                  <a:pt x="19224" y="15627"/>
                </a:cubicBezTo>
                <a:cubicBezTo>
                  <a:pt x="19232" y="15619"/>
                  <a:pt x="19240" y="15610"/>
                  <a:pt x="19248" y="15602"/>
                </a:cubicBezTo>
              </a:path>
              <a:path w="3424" h="4888">
                <a:moveTo>
                  <a:pt x="19224" y="13295"/>
                </a:moveTo>
                <a:cubicBezTo>
                  <a:pt x="19480" y="13222"/>
                  <a:pt x="19499" y="13258"/>
                  <a:pt x="19273" y="13444"/>
                </a:cubicBezTo>
                <a:cubicBezTo>
                  <a:pt x="19248" y="13461"/>
                  <a:pt x="19224" y="13477"/>
                  <a:pt x="19199" y="13494"/>
                </a:cubicBezTo>
                <a:cubicBezTo>
                  <a:pt x="19339" y="13461"/>
                  <a:pt x="19331" y="13463"/>
                  <a:pt x="19447" y="13543"/>
                </a:cubicBezTo>
                <a:cubicBezTo>
                  <a:pt x="19365" y="13708"/>
                  <a:pt x="19353" y="13706"/>
                  <a:pt x="19174" y="13742"/>
                </a:cubicBezTo>
              </a:path>
              <a:path w="3424" h="4888">
                <a:moveTo>
                  <a:pt x="18827" y="16917"/>
                </a:moveTo>
                <a:cubicBezTo>
                  <a:pt x="18717" y="16880"/>
                  <a:pt x="18853" y="16897"/>
                  <a:pt x="18901" y="16892"/>
                </a:cubicBezTo>
                <a:cubicBezTo>
                  <a:pt x="18857" y="17026"/>
                  <a:pt x="18767" y="16991"/>
                  <a:pt x="18876" y="17066"/>
                </a:cubicBezTo>
                <a:cubicBezTo>
                  <a:pt x="18884" y="17074"/>
                  <a:pt x="18893" y="17082"/>
                  <a:pt x="18901" y="17090"/>
                </a:cubicBezTo>
                <a:cubicBezTo>
                  <a:pt x="18863" y="17205"/>
                  <a:pt x="18821" y="17241"/>
                  <a:pt x="18703" y="17214"/>
                </a:cubicBezTo>
              </a:path>
              <a:path w="3424" h="4888">
                <a:moveTo>
                  <a:pt x="19199" y="16718"/>
                </a:moveTo>
                <a:cubicBezTo>
                  <a:pt x="19192" y="16797"/>
                  <a:pt x="19093" y="17064"/>
                  <a:pt x="19273" y="16991"/>
                </a:cubicBezTo>
                <a:cubicBezTo>
                  <a:pt x="19355" y="16958"/>
                  <a:pt x="19369" y="16874"/>
                  <a:pt x="19348" y="16842"/>
                </a:cubicBezTo>
                <a:cubicBezTo>
                  <a:pt x="19230" y="16871"/>
                  <a:pt x="19185" y="16894"/>
                  <a:pt x="19149" y="16991"/>
                </a:cubicBezTo>
              </a:path>
              <a:path w="3424" h="4888">
                <a:moveTo>
                  <a:pt x="18827" y="17289"/>
                </a:moveTo>
                <a:cubicBezTo>
                  <a:pt x="19108" y="17233"/>
                  <a:pt x="19389" y="17175"/>
                  <a:pt x="19670" y="17115"/>
                </a:cubicBezTo>
              </a:path>
              <a:path w="3424" h="4888">
                <a:moveTo>
                  <a:pt x="19248" y="17438"/>
                </a:moveTo>
                <a:cubicBezTo>
                  <a:pt x="19228" y="17645"/>
                  <a:pt x="19106" y="17593"/>
                  <a:pt x="19323" y="17661"/>
                </a:cubicBezTo>
              </a:path>
              <a:path w="3424" h="4888">
                <a:moveTo>
                  <a:pt x="19496" y="17388"/>
                </a:moveTo>
                <a:cubicBezTo>
                  <a:pt x="19427" y="17520"/>
                  <a:pt x="19376" y="17645"/>
                  <a:pt x="19323" y="17785"/>
                </a:cubicBezTo>
              </a:path>
              <a:path w="3424" h="4888">
                <a:moveTo>
                  <a:pt x="19124" y="12898"/>
                </a:moveTo>
                <a:cubicBezTo>
                  <a:pt x="19234" y="12914"/>
                  <a:pt x="19331" y="12904"/>
                  <a:pt x="19447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38240" y="5749920"/>
            <a:ext cx="2768760" cy="108000"/>
          </a:xfrm>
          <a:custGeom>
            <a:avLst/>
            <a:gdLst/>
            <a:ahLst/>
            <a:rect l="l" t="t" r="r" b="b"/>
            <a:pathLst>
              <a:path w="7690" h="299">
                <a:moveTo>
                  <a:pt x="5457" y="16247"/>
                </a:moveTo>
                <a:cubicBezTo>
                  <a:pt x="5459" y="16248"/>
                  <a:pt x="5253" y="16260"/>
                  <a:pt x="5581" y="16247"/>
                </a:cubicBezTo>
                <a:cubicBezTo>
                  <a:pt x="5989" y="16231"/>
                  <a:pt x="6386" y="16153"/>
                  <a:pt x="6796" y="16148"/>
                </a:cubicBezTo>
                <a:cubicBezTo>
                  <a:pt x="7103" y="16144"/>
                  <a:pt x="7406" y="16123"/>
                  <a:pt x="7714" y="16123"/>
                </a:cubicBezTo>
                <a:cubicBezTo>
                  <a:pt x="8063" y="16123"/>
                  <a:pt x="8408" y="16136"/>
                  <a:pt x="8756" y="16148"/>
                </a:cubicBezTo>
                <a:cubicBezTo>
                  <a:pt x="9061" y="16158"/>
                  <a:pt x="9370" y="16143"/>
                  <a:pt x="9674" y="16123"/>
                </a:cubicBezTo>
                <a:cubicBezTo>
                  <a:pt x="10065" y="16097"/>
                  <a:pt x="10448" y="16015"/>
                  <a:pt x="10840" y="15999"/>
                </a:cubicBezTo>
                <a:cubicBezTo>
                  <a:pt x="11367" y="15978"/>
                  <a:pt x="11900" y="15978"/>
                  <a:pt x="12427" y="15974"/>
                </a:cubicBezTo>
                <a:cubicBezTo>
                  <a:pt x="12642" y="15972"/>
                  <a:pt x="12857" y="15974"/>
                  <a:pt x="1307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s/Decimals work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18T18:07:43Z</dcterms:modified>
  <cp:revision>53</cp:revision>
  <dc:subject/>
  <dc:title>Unit 1 – Variables and Equations </dc:title>
</cp:coreProperties>
</file>